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E76-2DA5-4732-B7D0-C4DF87CC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CE7-6F2A-4782-AB64-5A282D48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09D-16C6-4D02-9A2A-78A34433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4A3-F5D9-4D12-A59A-72AB0CB5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EB3-AC61-4710-ACDC-2761EBD8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9DC-0361-413F-9F2B-B6A1B2CA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E54-D82C-466C-B9C4-96DE1464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1BC-5A1C-4281-9A2E-87977A16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298-826A-4951-B01B-A9234B92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C85-683A-4EE9-958C-B03175D1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46F-6424-414F-8149-875590F6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F5E-4745-4F9E-AA98-8D147DA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426A-2D17-47E0-9FB5-589E1160F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1.png"/><Relationship Id="rId19" Type="http://schemas.openxmlformats.org/officeDocument/2006/relationships/image" Target="../media/image5.png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8.wmf"/><Relationship Id="rId3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1380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PowerPoint is designed to accompany the sound file “Combien de crayons?” which has eight questions asking how many of each item there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several ways in which this can be used.  Here are some sugg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traditional way – pupils listen to each question, look at the pictures and write down the correct number.  This shows that they have understood the name of the classroom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upils listen to the question and hold up the correct number on a number f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upils answer orally in French.  This will assess not only their comprehension of the classroom objects but also their recall of th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ce you have used the sound file, you can ask the questions yourself in a question-answer session with the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can change the numbers of the items on the slide to change the answers.  For example, try 3 tables and 2 penc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e the pictures for a vocabulary recognition exercise.  Say one of the words, for example “un crayon” or a phrase such as “il y a six crayons” and pupils have to touch the picture on the board.  Use two pupils and fly swats for a bit of competition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645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Combien de crayon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Combien de stylo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Combien de chais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Combien de taille-crayon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Combien de trouss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Combien de gomm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Combien de cahier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Combien de tabl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45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80000" y="5292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24720" y="404640"/>
            <a:ext cx="1201680" cy="1202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740720" y="62064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956720" y="83664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659640" y="134136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427640" y="4005360"/>
            <a:ext cx="1296720" cy="129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635280" y="450864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796000" y="5508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680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95280" y="5157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39640" y="4149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755640" y="47242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258920" y="5373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/>
          <a:stretch/>
        </p:blipFill>
        <p:spPr>
          <a:xfrm>
            <a:off x="1619280" y="486900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/>
          <a:stretch/>
        </p:blipFill>
        <p:spPr>
          <a:xfrm>
            <a:off x="1403280" y="4437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1258920" y="3933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7164360" y="5489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9"/>
          <a:stretch/>
        </p:blipFill>
        <p:spPr>
          <a:xfrm rot="3585000">
            <a:off x="7134480" y="3097800"/>
            <a:ext cx="1548000" cy="1778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0"/>
          <a:stretch/>
        </p:blipFill>
        <p:spPr>
          <a:xfrm>
            <a:off x="3132000" y="2030400"/>
            <a:ext cx="1152720" cy="91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1"/>
          <a:stretch/>
        </p:blipFill>
        <p:spPr>
          <a:xfrm>
            <a:off x="3851280" y="2565360"/>
            <a:ext cx="1152360" cy="91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2"/>
          <a:stretch/>
        </p:blipFill>
        <p:spPr>
          <a:xfrm>
            <a:off x="4932360" y="2060640"/>
            <a:ext cx="1152360" cy="91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3"/>
          <a:stretch/>
        </p:blipFill>
        <p:spPr>
          <a:xfrm>
            <a:off x="4140360" y="1484280"/>
            <a:ext cx="1152360" cy="919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4"/>
          <a:stretch/>
        </p:blipFill>
        <p:spPr>
          <a:xfrm>
            <a:off x="2916360" y="2924280"/>
            <a:ext cx="1152360" cy="91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5"/>
          <a:stretch/>
        </p:blipFill>
        <p:spPr>
          <a:xfrm>
            <a:off x="7380360" y="5705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6"/>
          <a:stretch/>
        </p:blipFill>
        <p:spPr>
          <a:xfrm>
            <a:off x="7020000" y="5300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7"/>
          <a:stretch/>
        </p:blipFill>
        <p:spPr>
          <a:xfrm>
            <a:off x="7308720" y="1700280"/>
            <a:ext cx="1202040" cy="1201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8"/>
          <a:stretch/>
        </p:blipFill>
        <p:spPr>
          <a:xfrm>
            <a:off x="7524720" y="191628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9"/>
          <a:stretch/>
        </p:blipFill>
        <p:spPr>
          <a:xfrm>
            <a:off x="7020000" y="33336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0"/>
          <a:stretch/>
        </p:blipFill>
        <p:spPr>
          <a:xfrm>
            <a:off x="250920" y="33336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1"/>
          <a:stretch/>
        </p:blipFill>
        <p:spPr>
          <a:xfrm>
            <a:off x="1187280" y="54936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2"/>
          <a:stretch/>
        </p:blipFill>
        <p:spPr>
          <a:xfrm>
            <a:off x="1332000" y="1268280"/>
            <a:ext cx="9525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3"/>
          <a:stretch/>
        </p:blipFill>
        <p:spPr>
          <a:xfrm>
            <a:off x="324000" y="177336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4"/>
          <a:stretch/>
        </p:blipFill>
        <p:spPr>
          <a:xfrm>
            <a:off x="3203640" y="189000"/>
            <a:ext cx="996840" cy="685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5"/>
          <a:stretch/>
        </p:blipFill>
        <p:spPr>
          <a:xfrm>
            <a:off x="4140360" y="476280"/>
            <a:ext cx="996840" cy="685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6"/>
          <a:stretch/>
        </p:blipFill>
        <p:spPr>
          <a:xfrm>
            <a:off x="5076720" y="260280"/>
            <a:ext cx="99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20:36:54Z</dcterms:created>
  <dc:creator>CSeccombe</dc:creator>
  <dc:description/>
  <dc:language>en-US</dc:language>
  <cp:lastModifiedBy>CSeccombe</cp:lastModifiedBy>
  <dcterms:modified xsi:type="dcterms:W3CDTF">2008-03-14T10:15:49Z</dcterms:modified>
  <cp:revision>8</cp:revision>
  <dc:subject/>
  <dc:title>Slide 1</dc:title>
</cp:coreProperties>
</file>