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66DB-3C67-4AED-8D24-137C36778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9720-7749-4D37-ABA6-438FBB85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382E-4159-4D15-921B-4AB78BE97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04A5-B4F3-47BA-9944-2B20BFDE3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0590-4749-4BBF-BA7A-744DFC9F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CAFB-3815-4D47-BD32-D4CB20D9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D06E-9845-46E0-A41E-F9338F4D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433C-97CC-4A74-BBD2-B2B707CE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3E88-F4EE-49CF-A08C-B6CB411C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C22E-C1ED-4C21-8413-58B5234E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E1B2-15DB-4922-9BFB-CE450785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131B-41DF-442C-B959-B14F40D9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831D-CF08-4A67-B3C5-357F55AFE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1.png"/><Relationship Id="rId19" Type="http://schemas.openxmlformats.org/officeDocument/2006/relationships/image" Target="../media/image5.png"/><Relationship Id="rId20" Type="http://schemas.openxmlformats.org/officeDocument/2006/relationships/image" Target="../media/image6.wmf"/><Relationship Id="rId21" Type="http://schemas.openxmlformats.org/officeDocument/2006/relationships/image" Target="../media/image6.wmf"/><Relationship Id="rId22" Type="http://schemas.openxmlformats.org/officeDocument/2006/relationships/image" Target="../media/image6.wmf"/><Relationship Id="rId23" Type="http://schemas.openxmlformats.org/officeDocument/2006/relationships/image" Target="../media/image6.wmf"/><Relationship Id="rId24" Type="http://schemas.openxmlformats.org/officeDocument/2006/relationships/image" Target="../media/image6.wmf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7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7.png"/><Relationship Id="rId34" Type="http://schemas.openxmlformats.org/officeDocument/2006/relationships/image" Target="../media/image8.wmf"/><Relationship Id="rId35" Type="http://schemas.openxmlformats.org/officeDocument/2006/relationships/image" Target="../media/image8.wmf"/><Relationship Id="rId36" Type="http://schemas.openxmlformats.org/officeDocument/2006/relationships/image" Target="../media/image8.wmf"/><Relationship Id="rId3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189000"/>
            <a:ext cx="8713800" cy="61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Notes for the teach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is PowerPoint is designed to accompany the sound file “Combien de crayons?” which has eight questions asking how many of each item there 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re are several ways in which this can be used.  Here are some sugges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traditional way – pupils listen to each question, look at the pictures and write down the correct number.  This shows that they have understood the name of the classroom ob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upils listen to the question and hold up the correct number on a number f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upils answer orally in French.  This will assess not only their comprehension of the classroom objects but also their recall of the nu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Once you have used the sound file, you can ask the questions yourself in a question-answer session with the child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ou can change the numbers of the items on the slide to change the answers.  For example, try 3 tables and 2 penci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Use the pictures for a vocabulary recognition exercise.  Say one of the words, for example “un crayon” or a phrase such as “il y a six crayons” and pupils have to touch the picture on the board.  Use two pupils and fly swats for a bit of competition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6453360"/>
            <a:ext cx="87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©MFL Sunderland 2008 CS/IR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189000"/>
            <a:ext cx="871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cript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 Combien de crayon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 Combien de stylo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 Combien de chais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. Combien de taille-crayon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. Combien de trouss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. Combien de gomm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. Combien de cahier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. Combien de tabl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6453360"/>
            <a:ext cx="87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©MFL Sunderland 2008 CS/IR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580000" y="529272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524720" y="404640"/>
            <a:ext cx="1201680" cy="1202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740720" y="620640"/>
            <a:ext cx="1201680" cy="1201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956720" y="836640"/>
            <a:ext cx="1201680" cy="1201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6659640" y="1341360"/>
            <a:ext cx="1201680" cy="1201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7093080" y="1484280"/>
            <a:ext cx="1201680" cy="1201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4427640" y="4005360"/>
            <a:ext cx="1296720" cy="1296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3635280" y="4508640"/>
            <a:ext cx="1297080" cy="1296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5796000" y="550872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6804000" y="501336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1"/>
          <a:stretch/>
        </p:blipFill>
        <p:spPr>
          <a:xfrm>
            <a:off x="395280" y="515772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2"/>
          <a:stretch/>
        </p:blipFill>
        <p:spPr>
          <a:xfrm>
            <a:off x="539640" y="414972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3"/>
          <a:stretch/>
        </p:blipFill>
        <p:spPr>
          <a:xfrm>
            <a:off x="755640" y="472428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4"/>
          <a:stretch/>
        </p:blipFill>
        <p:spPr>
          <a:xfrm>
            <a:off x="1258920" y="537372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5"/>
          <a:stretch/>
        </p:blipFill>
        <p:spPr>
          <a:xfrm>
            <a:off x="1619280" y="486900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6"/>
          <a:stretch/>
        </p:blipFill>
        <p:spPr>
          <a:xfrm>
            <a:off x="1403280" y="443700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7"/>
          <a:stretch/>
        </p:blipFill>
        <p:spPr>
          <a:xfrm>
            <a:off x="1258920" y="393372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8"/>
          <a:stretch/>
        </p:blipFill>
        <p:spPr>
          <a:xfrm>
            <a:off x="7164360" y="548964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9"/>
          <a:stretch/>
        </p:blipFill>
        <p:spPr>
          <a:xfrm rot="3585000">
            <a:off x="7134480" y="3097800"/>
            <a:ext cx="1548000" cy="1778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0"/>
          <a:stretch/>
        </p:blipFill>
        <p:spPr>
          <a:xfrm>
            <a:off x="3132000" y="2030400"/>
            <a:ext cx="1152720" cy="919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1"/>
          <a:stretch/>
        </p:blipFill>
        <p:spPr>
          <a:xfrm>
            <a:off x="3851280" y="2565360"/>
            <a:ext cx="1152360" cy="919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2"/>
          <a:stretch/>
        </p:blipFill>
        <p:spPr>
          <a:xfrm>
            <a:off x="4932360" y="2060640"/>
            <a:ext cx="1152360" cy="919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3"/>
          <a:stretch/>
        </p:blipFill>
        <p:spPr>
          <a:xfrm>
            <a:off x="4140360" y="1484280"/>
            <a:ext cx="1152360" cy="919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4"/>
          <a:stretch/>
        </p:blipFill>
        <p:spPr>
          <a:xfrm>
            <a:off x="2916360" y="2924280"/>
            <a:ext cx="1152360" cy="919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5"/>
          <a:stretch/>
        </p:blipFill>
        <p:spPr>
          <a:xfrm>
            <a:off x="7380360" y="570564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6"/>
          <a:stretch/>
        </p:blipFill>
        <p:spPr>
          <a:xfrm>
            <a:off x="7020000" y="530064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7"/>
          <a:stretch/>
        </p:blipFill>
        <p:spPr>
          <a:xfrm>
            <a:off x="7308720" y="1700280"/>
            <a:ext cx="1202040" cy="1201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8"/>
          <a:stretch/>
        </p:blipFill>
        <p:spPr>
          <a:xfrm>
            <a:off x="7524720" y="1916280"/>
            <a:ext cx="1201680" cy="1201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9"/>
          <a:stretch/>
        </p:blipFill>
        <p:spPr>
          <a:xfrm>
            <a:off x="7020000" y="333360"/>
            <a:ext cx="1201680" cy="1201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0"/>
          <a:stretch/>
        </p:blipFill>
        <p:spPr>
          <a:xfrm>
            <a:off x="250920" y="333360"/>
            <a:ext cx="952560" cy="942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1"/>
          <a:stretch/>
        </p:blipFill>
        <p:spPr>
          <a:xfrm>
            <a:off x="1187280" y="549360"/>
            <a:ext cx="952560" cy="942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2"/>
          <a:stretch/>
        </p:blipFill>
        <p:spPr>
          <a:xfrm>
            <a:off x="1332000" y="1268280"/>
            <a:ext cx="952560" cy="943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3"/>
          <a:stretch/>
        </p:blipFill>
        <p:spPr>
          <a:xfrm>
            <a:off x="324000" y="1773360"/>
            <a:ext cx="952200" cy="942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4"/>
          <a:stretch/>
        </p:blipFill>
        <p:spPr>
          <a:xfrm>
            <a:off x="3203640" y="189000"/>
            <a:ext cx="996840" cy="685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5"/>
          <a:stretch/>
        </p:blipFill>
        <p:spPr>
          <a:xfrm>
            <a:off x="4140360" y="476280"/>
            <a:ext cx="996840" cy="685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6"/>
          <a:stretch/>
        </p:blipFill>
        <p:spPr>
          <a:xfrm>
            <a:off x="5076720" y="260280"/>
            <a:ext cx="9972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20:36:54Z</dcterms:created>
  <dc:creator>CSeccombe</dc:creator>
  <dc:description/>
  <dc:language>en-US</dc:language>
  <cp:lastModifiedBy>CSeccombe</cp:lastModifiedBy>
  <dcterms:modified xsi:type="dcterms:W3CDTF">2008-03-14T10:15:49Z</dcterms:modified>
  <cp:revision>8</cp:revision>
  <dc:subject/>
  <dc:title>Slide 1</dc:title>
</cp:coreProperties>
</file>