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F2E-CD5F-4F52-B0B1-C5ACB1FA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626-F757-4EC5-82C4-26E01B98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416-14BC-41AE-8B9F-56AFFCE3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39B-DDF0-4C4D-A37A-E71B89AC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1CF-3D9E-463B-BFB2-5ACC691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D2B-AE5D-4670-A3DA-5076C7C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871-EE71-4733-8D8F-D648ABCB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801-4EE6-4BED-82C9-B9CE84EF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322-9CFE-411F-871A-DF2F87FE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C89-AF05-4297-9C66-D792E6C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0ED-2AFC-4F56-8045-9D6ED73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295-7886-4254-BF48-2CD8150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9B0-7FCE-4E96-8DA5-296C6E695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Colours and opinions listening exercise”  The sound file has 8 questions, each asking if the person likes a certain col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sound file and say the number of the picture which is being describ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come to the board and point to the picture that is being descri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question and answer it according to the symbols and colours on the bo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follow-up, you could copy the slide and change the colours and/or the symbols for further speaking and listening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3141720"/>
            <a:ext cx="85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Est-ce que tu aimes le rou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st-ce que tu aimes le ver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Aimes-tu le bleu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Tu aimes le jaun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Aimes-tu le blan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Est-ce que tu aimes le viole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Tu aimes le mar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Aimes-tu l’oran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6453360"/>
            <a:ext cx="65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189000"/>
          <a:ext cx="8569080" cy="633564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28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0e2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03ab"/>
                        </a:gs>
                        <a:gs pos="5000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add43"/>
                    </a:solidFill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68360" y="450864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3336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3336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42100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3333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50864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89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18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89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276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34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4437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0:42:52Z</dcterms:created>
  <dc:creator>Clare</dc:creator>
  <dc:description/>
  <dc:language>en-US</dc:language>
  <cp:lastModifiedBy>Clare</cp:lastModifiedBy>
  <dcterms:modified xsi:type="dcterms:W3CDTF">2008-05-09T11:11:25Z</dcterms:modified>
  <cp:revision>5</cp:revision>
  <dc:subject/>
  <dc:title>Slide 1</dc:title>
</cp:coreProperties>
</file>