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CBC-B251-4050-A928-739F8C63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7DF-1465-459C-B299-06A5340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599-0BC0-466D-B161-19DB750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620-B252-469E-9E85-D38FCB9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28E-15D6-465E-A50D-D4DBB697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FB5-55F9-470B-A97D-44710A0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5AF-E371-4E3D-B2F4-7DBFB0D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BAF-D3C1-4E97-BBB4-5BADCDE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537-6B71-4412-AAD5-B12B3175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487-4D45-415F-BE30-27CBF6E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A35-E96E-4267-AEDC-49A256B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466-7296-45F3-A646-024C481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D42-C25E-4705-A29F-5A0F91C4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Colours and opinions listening exercise”  The sound file has 8 questions, each asking if the person likes a certain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say the number of the picture which is being describ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come to the board and point to the picture that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question and answer it according to the symbols and colours on the bo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you could copy the slide and change the colours and/or the symbols for further speaking and listening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141720"/>
            <a:ext cx="85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Est-ce que tu aimes le rou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st-ce que tu aimes le ve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Aimes-tu le ble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u aimes le jaun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Aimes-tu le blan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Est-ce que tu aimes le viole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u aimes le mar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Aimes-tu l’oran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6453360"/>
            <a:ext cx="65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89000"/>
          <a:ext cx="8569080" cy="633564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28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0e2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5000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add43"/>
                    </a:solidFill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68360" y="450864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3336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3336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333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89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18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8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276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3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0:42:52Z</dcterms:created>
  <dc:creator>Clare</dc:creator>
  <dc:description/>
  <dc:language>en-US</dc:language>
  <cp:lastModifiedBy>Clare</cp:lastModifiedBy>
  <dcterms:modified xsi:type="dcterms:W3CDTF">2008-05-09T11:11:25Z</dcterms:modified>
  <cp:revision>5</cp:revision>
  <dc:subject/>
  <dc:title>Slide 1</dc:title>
</cp:coreProperties>
</file>