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8AE-7149-498C-A0DC-9B306822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86F-1811-43A2-A8D4-AE5DFB48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948-AD8B-4FF9-B461-9E57F7B9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622-272E-4631-9897-AFCF3556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F08-2E6F-420E-BC0B-1141805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7A2-4879-48F4-8BBB-F69A8A7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BA9-A236-4840-AB8C-604F381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956-F92E-41F9-B45F-67D9FC34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19F-207D-495A-96C0-AF98D55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0B0-7620-4086-8A38-257232A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B30-0F94-4871-BAF9-5E0BB2B6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024-5B4E-422D-B7B9-0CE4BAA0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A1D6-3E51-4BA0-8E34-C22789CB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Colours and opinions True or false”  The sound file has 8 questions, each giving an opinion about a col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listen to the sound file and answer “Vrai” or “Faux” as appropriat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correct the 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use the colours and symbols to express the opinions of the col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a follow-up, pupils can give their own opinions of col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314172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rai ou fau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J’adore le 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J’aime l’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J’adore le n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Je déteste le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Je n’aime pas le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J’aime le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J’adore le ja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Je n’aime pas le mar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6453360"/>
            <a:ext cx="65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189000"/>
          <a:ext cx="8569080" cy="633564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28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68360" y="450864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3336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3336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42100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3333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0:42:52Z</dcterms:created>
  <dc:creator>Clare</dc:creator>
  <dc:description/>
  <dc:language>en-US</dc:language>
  <cp:lastModifiedBy>Clare</cp:lastModifiedBy>
  <dcterms:modified xsi:type="dcterms:W3CDTF">2008-05-09T11:15:31Z</dcterms:modified>
  <cp:revision>6</cp:revision>
  <dc:subject/>
  <dc:title>Slide 1</dc:title>
</cp:coreProperties>
</file>