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B3C2-9A78-4A7E-AF26-F0237CE5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D96-C1E5-43BF-9594-38DF43B9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8C5-26A8-4243-8A8F-3EB89198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2E5-76C7-4A5A-B638-135AD18D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87E-31E5-42D7-921C-C566E7FD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096-769F-46A6-A282-EAA6CCC5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589-9F06-431C-B728-D0623CAE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F9F8-C0D4-41FB-BA4D-E19CA66B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779-7A8C-4732-8F5C-AE6CAC65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9A4-0E38-434F-8D87-1A80F3A8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3B51-E19E-41F4-9F78-BC0D3044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E166-8900-4C64-9A9F-7AEEC05A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E753-7730-4E76-A967-42F30B03B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is PowerPoint is designed to be used with the sound file “Colours and opinions True or false”  The sound file has 8 questions, each giving an opinion about a colo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 resource can be used in several different ways.  Here are some sugg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pils listen to the sound file and answer “Vrai” or “Faux” as appropriat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pils correct the false stat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pils use the colours and symbols to express the opinions of the colou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s a follow-up, pupils can give their own opinions of colou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3141720"/>
            <a:ext cx="85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cri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rai ou faux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J’adore le r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J’aime l’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J’adore le n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Je déteste le g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 Je n’aime pas le 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J’aime le bla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 J’adore le ja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 Je n’aime pas le mar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6000" y="6453360"/>
            <a:ext cx="65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MFL Sunderland 2008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189000"/>
          <a:ext cx="8569080" cy="633564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28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603ab"/>
                        </a:gs>
                        <a:gs pos="100000">
                          <a:srgbClr val="a603ab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68360" y="450864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3336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56360" y="450864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33336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2421000"/>
            <a:ext cx="26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33336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450864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0:42:52Z</dcterms:created>
  <dc:creator>Clare</dc:creator>
  <dc:description/>
  <dc:language>en-US</dc:language>
  <cp:lastModifiedBy>Clare</cp:lastModifiedBy>
  <dcterms:modified xsi:type="dcterms:W3CDTF">2008-05-09T11:15:31Z</dcterms:modified>
  <cp:revision>6</cp:revision>
  <dc:subject/>
  <dc:title>Slide 1</dc:title>
</cp:coreProperties>
</file>