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AC3-D172-4BB2-B945-615D2A89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916-9C10-4E3A-AB7B-D9762455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335-84F7-491E-ABD7-A5EAA271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C0B-7A16-43FC-A697-78419EEF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07E4-CC8B-48EC-A150-1DAA4E65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55F-38A8-4164-AAA8-1989786F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6B5-4DCE-473E-926A-A7F6FFC6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A34-813F-497B-B878-781DAD0E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74FC-B291-4C57-B7A7-0D8C101C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28B5-BFA9-47BC-A40A-28A98AFD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C2F-5323-4A97-B081-FE396C1F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01D-A44D-472E-8849-459EE9AD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8BA0-8F49-466A-8054-BAA4F11F3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9000"/>
            <a:ext cx="8713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otes for the teac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PowerPoint is designed to accompany the sound file “Dans la salle de classe il y a…” which has a list of the 12 classroom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re are several ways in which this can be used.  Here are some sugg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se it to practise the vocabulary.  It’s advisable to begin without the words underneath so as to prevent sound-spelling difficul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int the slides out onto card, with or without words, to use as flashcards, display, or for 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645336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©MFL Sunderland 2008 CS/IR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3213000"/>
            <a:ext cx="8713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ranscrip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ns la salle de classe il y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cah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cray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ordin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sty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taille-cray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e cha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e fenê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e go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e 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e rè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e trou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e por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08480" y="260280"/>
            <a:ext cx="30574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e règ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82436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e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7516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3585000">
            <a:off x="2833560" y="55080"/>
            <a:ext cx="4708800" cy="5407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e trous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18503400">
            <a:off x="2616120" y="350280"/>
            <a:ext cx="3887640" cy="3849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 cahi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 cray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 ordinateu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 styl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4968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 taille-cray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532944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e chai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e fenêt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03640" y="333360"/>
            <a:ext cx="30193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508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une gom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20:36:54Z</dcterms:created>
  <dc:creator>CSeccombe</dc:creator>
  <dc:description/>
  <dc:language>en-US</dc:language>
  <cp:lastModifiedBy>CSeccombe</cp:lastModifiedBy>
  <dcterms:modified xsi:type="dcterms:W3CDTF">2008-03-14T10:14:23Z</dcterms:modified>
  <cp:revision>9</cp:revision>
  <dc:subject/>
  <dc:title>Slide 1</dc:title>
</cp:coreProperties>
</file>