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F935-D93F-493B-A2F2-DECD2997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6D7-FC85-4A78-8116-C3995499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BE83-A1D3-4AFA-AEE1-ED19EEBC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7622-B0F1-4B3F-ABBF-5BBF5255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BB59-FD13-4A60-B12D-859E7172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D04-389C-4A43-AB18-36BD8ED3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B0A-0B5F-41E7-9F42-7EA67562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E8BE-C529-46DA-A7E4-13744209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389A-A818-4578-87DB-528C8028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769F-11CD-45F7-A552-C620BC86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41E-410A-4A35-A890-7C9C99C0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BFA4-33E1-44E7-B8CA-F0430A9A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56A1-D46F-4BD9-867B-BE4D8BCF2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9000"/>
            <a:ext cx="8713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otes for the teac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PowerPoint is designed to accompany the sound file “Dans la salle de classe il y a…” which has a list of the 12 classroom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re are several ways in which this can be used.  Here are some sugg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se it to practise the vocabulary.  It’s advisable to begin without the words underneath so as to prevent sound-spelling difficul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int the slides out onto card, with or without words, to use as flashcards, display, or for 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645336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©MFL Sunderland 2008 CS/IR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3213000"/>
            <a:ext cx="8713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ranscrip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ns la salle de classe il y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cah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cray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ordin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sty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taille-cray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e cha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e fenê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e go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e 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e rè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e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e trou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508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une por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08480" y="260280"/>
            <a:ext cx="30574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508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une règ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82436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508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une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7516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3585000">
            <a:off x="2833560" y="55080"/>
            <a:ext cx="4708800" cy="5407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9640" y="508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une trous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18503400">
            <a:off x="2616120" y="350280"/>
            <a:ext cx="3887640" cy="3849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640" y="508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un cahi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508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un cray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508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un ordinateu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508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un styl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4968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508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un taille-cray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532944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508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une chai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508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une fenêt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03640" y="333360"/>
            <a:ext cx="30193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508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une gom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20:36:54Z</dcterms:created>
  <dc:creator>CSeccombe</dc:creator>
  <dc:description/>
  <dc:language>en-US</dc:language>
  <cp:lastModifiedBy>CSeccombe</cp:lastModifiedBy>
  <dcterms:modified xsi:type="dcterms:W3CDTF">2008-03-14T10:14:23Z</dcterms:modified>
  <cp:revision>9</cp:revision>
  <dc:subject/>
  <dc:title>Slide 1</dc:title>
</cp:coreProperties>
</file>