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8C4-F416-463C-8CCF-0B46E1BD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DB7-08BA-4353-99DC-E822494E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603-5E69-4162-860F-6C5C350D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8E4-22D3-439F-A815-8576F5D7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031-41E3-471C-A168-C5294144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6F6-6948-4ECB-91A6-C2A76FA8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AD8-D5A9-4103-AEED-ED38A30B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2D1-9ADF-43F9-A843-EFECACE9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A30-A667-46FE-BE5A-8F592BE6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97B-AC96-4D38-A889-C3AAFAFB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43F-D8AA-45F8-AA61-E0B59348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48C-EC75-403B-BE03-135A9743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C347-A705-4584-B150-29E9CFCFC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hyperlink" Target="http://www.sunderlandschools.org/mfl-sunderland" TargetMode="External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Quel temps fait-il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836640"/>
          <a:ext cx="8569080" cy="554508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51280" y="2708280"/>
            <a:ext cx="145908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920" y="450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516720" y="907920"/>
            <a:ext cx="1871640" cy="1704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708360" y="4581360"/>
            <a:ext cx="1727280" cy="171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95280" y="981000"/>
            <a:ext cx="2664000" cy="151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924360" y="836640"/>
            <a:ext cx="1420920" cy="172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516720" y="4581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826920" y="270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227640" y="2637000"/>
            <a:ext cx="2432160" cy="1844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84360" y="6524640"/>
            <a:ext cx="66596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0"/>
              </a:rPr>
              <a:t>http://www.sunderlandschools.org/mfl-sunderland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4:36:37Z</dcterms:created>
  <dc:creator>CSeccombe</dc:creator>
  <dc:description/>
  <dc:language>en-US</dc:language>
  <cp:lastModifiedBy>CSeccombe</cp:lastModifiedBy>
  <dcterms:modified xsi:type="dcterms:W3CDTF">2008-03-28T14:38:33Z</dcterms:modified>
  <cp:revision>2</cp:revision>
  <dc:subject/>
  <dc:title>Slide 1</dc:title>
</cp:coreProperties>
</file>