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A4C-24D5-400B-A123-D01DC60E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0B0-99F4-4F35-9E82-F877DC69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B6E-A9B9-47FE-AD8B-18C8993B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52D-D2BC-4BF0-9719-E7A3F7CF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9C7-D03A-41C8-8827-2424051F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FFD-F7AD-40FB-B62F-4EED48D9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7A29-1EB0-453E-8C28-CCF53894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751-1FAC-4B53-AA6B-4DB76A17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190-4167-485A-937A-1342894D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00A-6899-4C22-8A79-110552DD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CBC-BA4E-4C22-AB8F-3B02F465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6D7-E4C0-4BE5-965A-E5E302A9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C8A6-8277-47EC-A381-7CB489175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hyperlink" Target="http://www.sunderlandschools.org/mfl-sunderland" TargetMode="External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Quel temps fait-il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836640"/>
          <a:ext cx="8569080" cy="554508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51280" y="2708280"/>
            <a:ext cx="145908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920" y="450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516720" y="907920"/>
            <a:ext cx="1871640" cy="1704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708360" y="4581360"/>
            <a:ext cx="1727280" cy="171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95280" y="981000"/>
            <a:ext cx="2664000" cy="151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924360" y="836640"/>
            <a:ext cx="1420920" cy="172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516720" y="4581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826920" y="270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227640" y="2637000"/>
            <a:ext cx="2432160" cy="1844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84360" y="6524640"/>
            <a:ext cx="6659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0"/>
              </a:rPr>
              <a:t>http://www.sunderlandschools.org/mfl-sunderland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4:36:37Z</dcterms:created>
  <dc:creator>CSeccombe</dc:creator>
  <dc:description/>
  <dc:language>en-US</dc:language>
  <cp:lastModifiedBy>CSeccombe</cp:lastModifiedBy>
  <dcterms:modified xsi:type="dcterms:W3CDTF">2008-03-28T14:38:33Z</dcterms:modified>
  <cp:revision>2</cp:revision>
  <dc:subject/>
  <dc:title>Slide 1</dc:title>
</cp:coreProperties>
</file>