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73E-3110-4748-9961-47DC5087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9A7-3541-4D92-A5F0-7E42604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882-8F11-4C7E-AC45-788A8C1A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71F-3B64-486C-986D-CE4E4818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593-163E-4777-9C37-D9212A8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521-535E-4CF5-91AE-BF590AD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77C-7082-4BD7-97B0-1613C18F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E4B-E04F-4131-B310-BAA42CAA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4C7-BE5B-4413-B028-AA7F45A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09A-9C9D-4277-A1A0-5C9D594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D68-0582-4DDD-90A0-4BE1CB92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AA8-4048-484D-877B-80133E9C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D0DB-AF21-4D8A-B7B4-77906C2BF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J’ai quatre ans”.  The sound file presents saying ages from 4 to 11 in the first person and asking the listener their own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773360"/>
            <a:ext cx="88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l âge as-tu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quatre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cinq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six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sep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hui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neuf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dix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onze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6524640"/>
            <a:ext cx="716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248000" cy="331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7453"/>
              <a:gd name="adj2" fmla="val 40462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81703"/>
              <a:gd name="adj2" fmla="val -18356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nz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flipH="1">
            <a:off x="250920" y="260280"/>
            <a:ext cx="40399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070080"/>
            <a:ext cx="2614680" cy="3787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11280" y="1052640"/>
            <a:ext cx="6481800" cy="2736720"/>
          </a:xfrm>
          <a:prstGeom prst="wedgeRoundRectCallout">
            <a:avLst>
              <a:gd name="adj1" fmla="val -50000"/>
              <a:gd name="adj2" fmla="val 101046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t toi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el âge as-tu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79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70080"/>
            <a:ext cx="2614680" cy="378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11280" y="333360"/>
            <a:ext cx="6481800" cy="4103640"/>
          </a:xfrm>
          <a:prstGeom prst="wedgeRoundRectCallout">
            <a:avLst>
              <a:gd name="adj1" fmla="val -50000"/>
              <a:gd name="adj2" fmla="val 68259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alut 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m’appelle Lune Landsar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el âge as-tu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3230640" cy="3663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6731"/>
              <a:gd name="adj2" fmla="val -3634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quatr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flipH="1">
            <a:off x="395280" y="476280"/>
            <a:ext cx="4176720" cy="409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100740"/>
              <a:gd name="adj2" fmla="val 19250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inq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7092"/>
              <a:gd name="adj2" fmla="val 38319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i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727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102222"/>
              <a:gd name="adj2" fmla="val 11083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ep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387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3407"/>
              <a:gd name="adj2" fmla="val 5064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u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376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80541"/>
              <a:gd name="adj2" fmla="val -7986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euf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-360" y="189000"/>
            <a:ext cx="5545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1:21:48Z</dcterms:created>
  <dc:creator>CSeccombe</dc:creator>
  <dc:description/>
  <dc:language>en-US</dc:language>
  <cp:lastModifiedBy>CSeccombe</cp:lastModifiedBy>
  <dcterms:modified xsi:type="dcterms:W3CDTF">2008-03-14T12:29:56Z</dcterms:modified>
  <cp:revision>5</cp:revision>
  <dc:subject/>
  <dc:title>Slide 1</dc:title>
</cp:coreProperties>
</file>