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png" ContentType="image/png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64DD9-C4C4-4DAD-AC3B-5261E7622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EF2BA-3BBF-45A5-AC01-DEFB14ACC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E92BE-1781-4A65-8FCC-FA3192E13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0E12C-37F4-40C0-894E-6922F06AA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FE7DA-5CEA-407A-8F8F-DD06F8FD2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B3A2E-C188-464B-B38E-6E4FC1CAB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8D90A-6F73-4395-A1AD-A6BC07BC0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10B59-44C8-4502-82FC-2FDD9C07B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CD84F-C5D4-435A-966E-975415E71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B0221-B553-4D36-A5F8-94242A05B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2F5CC-C7DA-46BE-A441-24DFA88ED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5F5A5-F60B-43C5-8451-B55C7A650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FE3A1-6717-4E78-810D-5CF407B4A7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sunderlandschools.org/mfl-sunderland" TargetMode="Externa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189000"/>
            <a:ext cx="91440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Notes for the teach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This PowerPoint is designed to accompany the sound file “J’ai quatre ans”.  The sound file presents saying ages from 4 to 11 in the first person and asking the listener their own a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1773360"/>
            <a:ext cx="8820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crip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Quel âge as-tu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J’ai quatre 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J’ai cinq 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J’ai six 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J’ai sept 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J’ai huit 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J’ai neuf 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J’ai dix 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J’ai onze 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979640" y="6524640"/>
            <a:ext cx="71643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Rounded MT Bold"/>
              </a:rPr>
              <a:t>©MFL Sunderland 2008 CS/IR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 Rounded MT Bold"/>
                <a:hlinkClick r:id="rId1"/>
              </a:rPr>
              <a:t>http://www.sunderlandschools.org/mfl-sunderland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 Rounded MT Bold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900000" y="4437000"/>
            <a:ext cx="29512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0" spc="-1" strike="noStrike">
                <a:solidFill>
                  <a:srgbClr val="000000"/>
                </a:solidFill>
                <a:latin typeface="Berlin Sans FB Demi"/>
              </a:rPr>
              <a:t>10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324000" y="1341360"/>
            <a:ext cx="4248000" cy="331164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4643280" y="260280"/>
            <a:ext cx="3961080" cy="2664000"/>
          </a:xfrm>
          <a:prstGeom prst="wedgeRoundRectCallout">
            <a:avLst>
              <a:gd name="adj1" fmla="val -97453"/>
              <a:gd name="adj2" fmla="val 40462"/>
              <a:gd name="adj3" fmla="val 16667"/>
            </a:avLst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J’ai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di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an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900000" y="4437000"/>
            <a:ext cx="29512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0" spc="-1" strike="noStrike">
                <a:solidFill>
                  <a:srgbClr val="000000"/>
                </a:solidFill>
                <a:latin typeface="Berlin Sans FB Demi"/>
              </a:rPr>
              <a:t>11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643280" y="260280"/>
            <a:ext cx="3961080" cy="2664000"/>
          </a:xfrm>
          <a:prstGeom prst="wedgeRoundRectCallout">
            <a:avLst>
              <a:gd name="adj1" fmla="val -81703"/>
              <a:gd name="adj2" fmla="val -18356"/>
              <a:gd name="adj3" fmla="val 16667"/>
            </a:avLst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J’ai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onze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an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 flipH="1">
            <a:off x="250920" y="260280"/>
            <a:ext cx="403992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3070080"/>
            <a:ext cx="2614680" cy="378792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2411280" y="1052640"/>
            <a:ext cx="6481800" cy="2736720"/>
          </a:xfrm>
          <a:prstGeom prst="wedgeRoundRectCallout">
            <a:avLst>
              <a:gd name="adj1" fmla="val -50000"/>
              <a:gd name="adj2" fmla="val 101046"/>
              <a:gd name="adj3" fmla="val 16667"/>
            </a:avLst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Et toi ?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Quel âge as-tu 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84360" y="836640"/>
            <a:ext cx="7927920" cy="42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3070080"/>
            <a:ext cx="2614680" cy="37879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411280" y="333360"/>
            <a:ext cx="6481800" cy="4103640"/>
          </a:xfrm>
          <a:prstGeom prst="wedgeRoundRectCallout">
            <a:avLst>
              <a:gd name="adj1" fmla="val -50000"/>
              <a:gd name="adj2" fmla="val 68259"/>
              <a:gd name="adj3" fmla="val 16667"/>
            </a:avLst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Salut !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Je m’appelle Lune Landsard.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Quel âge as-tu 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826920" y="549360"/>
            <a:ext cx="3230640" cy="36637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900000" y="4437000"/>
            <a:ext cx="29512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0" spc="-1" strike="noStrike">
                <a:solidFill>
                  <a:srgbClr val="000000"/>
                </a:solidFill>
                <a:latin typeface="Berlin Sans FB Demi"/>
              </a:rPr>
              <a:t>4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643280" y="260280"/>
            <a:ext cx="3961080" cy="2664000"/>
          </a:xfrm>
          <a:prstGeom prst="wedgeRoundRectCallout">
            <a:avLst>
              <a:gd name="adj1" fmla="val -96731"/>
              <a:gd name="adj2" fmla="val -3634"/>
              <a:gd name="adj3" fmla="val 16667"/>
            </a:avLst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J’ai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quatre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an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 flipH="1">
            <a:off x="395280" y="476280"/>
            <a:ext cx="4176720" cy="40957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900000" y="4437000"/>
            <a:ext cx="29512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0" spc="-1" strike="noStrike">
                <a:solidFill>
                  <a:srgbClr val="000000"/>
                </a:solidFill>
                <a:latin typeface="Berlin Sans FB Demi"/>
              </a:rPr>
              <a:t>5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43280" y="260280"/>
            <a:ext cx="3961080" cy="2664000"/>
          </a:xfrm>
          <a:prstGeom prst="wedgeRoundRectCallout">
            <a:avLst>
              <a:gd name="adj1" fmla="val -100740"/>
              <a:gd name="adj2" fmla="val 19250"/>
              <a:gd name="adj3" fmla="val 16667"/>
            </a:avLst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J’ai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cinq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an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900000" y="4437000"/>
            <a:ext cx="29512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0" spc="-1" strike="noStrike">
                <a:solidFill>
                  <a:srgbClr val="000000"/>
                </a:solidFill>
                <a:latin typeface="Berlin Sans FB Demi"/>
              </a:rPr>
              <a:t>6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43280" y="260280"/>
            <a:ext cx="3961080" cy="2664000"/>
          </a:xfrm>
          <a:prstGeom prst="wedgeRoundRectCallout">
            <a:avLst>
              <a:gd name="adj1" fmla="val -97092"/>
              <a:gd name="adj2" fmla="val 38319"/>
              <a:gd name="adj3" fmla="val 16667"/>
            </a:avLst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J’ai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si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an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24000" y="189000"/>
            <a:ext cx="272700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00000" y="4437000"/>
            <a:ext cx="29512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0" spc="-1" strike="noStrike">
                <a:solidFill>
                  <a:srgbClr val="000000"/>
                </a:solidFill>
                <a:latin typeface="Berlin Sans FB Demi"/>
              </a:rPr>
              <a:t>7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643280" y="260280"/>
            <a:ext cx="3961080" cy="2664000"/>
          </a:xfrm>
          <a:prstGeom prst="wedgeRoundRectCallout">
            <a:avLst>
              <a:gd name="adj1" fmla="val -102222"/>
              <a:gd name="adj2" fmla="val 11083"/>
              <a:gd name="adj3" fmla="val 16667"/>
            </a:avLst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J’ai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sept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an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338760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900000" y="4437000"/>
            <a:ext cx="29512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0" spc="-1" strike="noStrike">
                <a:solidFill>
                  <a:srgbClr val="000000"/>
                </a:solidFill>
                <a:latin typeface="Berlin Sans FB Demi"/>
              </a:rPr>
              <a:t>8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43280" y="260280"/>
            <a:ext cx="3961080" cy="2664000"/>
          </a:xfrm>
          <a:prstGeom prst="wedgeRoundRectCallout">
            <a:avLst>
              <a:gd name="adj1" fmla="val -93407"/>
              <a:gd name="adj2" fmla="val 5064"/>
              <a:gd name="adj3" fmla="val 16667"/>
            </a:avLst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J’ai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huit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an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50920" y="476280"/>
            <a:ext cx="337644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900000" y="4437000"/>
            <a:ext cx="29512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0" spc="-1" strike="noStrike">
                <a:solidFill>
                  <a:srgbClr val="000000"/>
                </a:solidFill>
                <a:latin typeface="Berlin Sans FB Demi"/>
              </a:rPr>
              <a:t>9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643280" y="260280"/>
            <a:ext cx="3961080" cy="2664000"/>
          </a:xfrm>
          <a:prstGeom prst="wedgeRoundRectCallout">
            <a:avLst>
              <a:gd name="adj1" fmla="val -80541"/>
              <a:gd name="adj2" fmla="val -7986"/>
              <a:gd name="adj3" fmla="val 16667"/>
            </a:avLst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J’ai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neuf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an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 flipH="1">
            <a:off x="-360" y="189000"/>
            <a:ext cx="554508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4T11:21:48Z</dcterms:created>
  <dc:creator>CSeccombe</dc:creator>
  <dc:description/>
  <dc:language>en-US</dc:language>
  <cp:lastModifiedBy>CSeccombe</cp:lastModifiedBy>
  <dcterms:modified xsi:type="dcterms:W3CDTF">2008-03-14T12:29:56Z</dcterms:modified>
  <cp:revision>5</cp:revision>
  <dc:subject/>
  <dc:title>Slide 1</dc:title>
</cp:coreProperties>
</file>