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8A4-22F3-43C0-AF05-A059585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DD8-1627-4D19-90E9-78793584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604-F875-48AC-B6EC-75CE392B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557-4B76-4DD3-8B61-0E771755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D2F-DF6E-46B8-8279-454F6ED5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8F1-9ED4-425F-ACCE-C48D1534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078-A6DE-4127-8F5B-3CBDE36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6AC-DDEC-4F9C-AF89-3C89716D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6E8-45E8-4B5D-A897-001A8128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EDD-95CE-424B-ADAA-F496645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D7E-7097-4164-A3E4-A4C7965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DF8-4D01-4497-801F-578BFBFF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7158-3CCC-43F2-A1AE-BFF38A7F8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549360"/>
            <a:ext cx="82818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Ainsi font, font, font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Les petites marionnettes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Ainsi font, font, font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Trois p'tits tours et puis s'en v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26320" y="2924280"/>
            <a:ext cx="1898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13800" cy="37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is is what they 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e little marionet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is is what they 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ree little turns and then they 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5:09:13Z</dcterms:modified>
  <cp:revision>6</cp:revision>
  <dc:subject/>
  <dc:title>Slide 1</dc:title>
</cp:coreProperties>
</file>