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CA41-FC67-4037-8CF3-E52022F1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AE66-D865-4065-85C1-98B031BC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1424-06B1-4166-A0AC-8D122319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508B-7638-4EDD-856E-87DF8C24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88EC-912D-42A7-BAD5-497CC038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7E5-E8AA-46C3-89C7-39F3B315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162A-DDC9-4D61-A13F-C332B684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D97-D82D-4CC0-AB5C-60037354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62C6-18A2-412D-9365-431F93DB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5E94-FC41-4D9F-9726-8D541ECA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C6B-6023-40A1-B0BF-F7193732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E796-FB86-428C-8F4F-F8815BA3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6A50-3B61-4737-9861-ED482E79C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549360"/>
            <a:ext cx="82818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Ainsi font, font, font</a:t>
            </a:r>
            <a:br>
              <a:rPr sz="4800"/>
            </a:b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Les petites marionnettes,</a:t>
            </a:r>
            <a:br>
              <a:rPr sz="4800"/>
            </a:b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Ainsi font, font, font</a:t>
            </a:r>
            <a:br>
              <a:rPr sz="4800"/>
            </a:b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Trois p'tits tours et puis s'en v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26320" y="2924280"/>
            <a:ext cx="189864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189000"/>
            <a:ext cx="8713800" cy="37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ational First Font"/>
              </a:rPr>
              <a:t>This is what they d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National First Font"/>
              </a:rPr>
              <a:t>The little marionett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National First Font"/>
              </a:rPr>
              <a:t>This is what they d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National First Font"/>
              </a:rPr>
              <a:t>Three little turns and then they g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3T15:09:13Z</dcterms:modified>
  <cp:revision>6</cp:revision>
  <dc:subject/>
  <dc:title>Slide 1</dc:title>
</cp:coreProperties>
</file>