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3DE-A75B-4278-B753-50270747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B32-320C-404B-B168-C5BEF665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4F5-2CA3-4F79-9BD3-9171E6CE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A6A-6702-46A2-A89C-57C1B746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12E-1616-4920-AAE2-C9932BB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31A-427C-49D5-A9AF-B11E88B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43C-9799-4C71-AE62-C18907D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20E-0F5F-4BED-82BA-4312FE57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1D3-1F4C-4DCD-B20D-37B01A4E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AF5-93F1-43B5-81D1-472B2FF7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517-B427-4068-AC9D-AC6D773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2BD-1BD4-42B9-8638-70273CE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8A5C-3D34-497D-8CC7-39D347C9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374508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a tê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Je te plumerai la tête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0"/>
            <a:ext cx="3457440" cy="65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National First Font"/>
              </a:rPr>
              <a:t>Je te plumerai le dos</a:t>
            </a: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Je te plumerai le do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a tê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a tê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Et le be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Alouet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gentille alouette,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National First Font"/>
              </a:rPr>
              <a:t>Alouette, je te plumer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00720" y="4508640"/>
            <a:ext cx="28908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338472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I will pluck you.</a:t>
            </a:r>
            <a:br>
              <a:rPr sz="1800"/>
            </a:b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bea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beak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br>
              <a:rPr sz="1800"/>
            </a:b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 I will pluck you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head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I will pluck your head 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nd your beak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nb-NO" sz="18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549360"/>
            <a:ext cx="345744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I will pluck you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I will pluck your back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I will pluck your bac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head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head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nd your bea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Lark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National First Font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nice lark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National First Font"/>
              </a:rPr>
              <a:t>Lark, I will pluc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4:43:54Z</dcterms:modified>
  <cp:revision>8</cp:revision>
  <dc:subject/>
  <dc:title>Slide 1</dc:title>
</cp:coreProperties>
</file>