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CA19-4FA2-46C0-A283-D751A031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4739-E32F-48AA-A804-B0018948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061-FB02-4053-AB9E-B32CA15B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798F-2934-4D63-806E-E6093BE9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AB16-B20D-43CE-B511-02E42DB4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ABA-F09F-4ADF-B193-082DF6E0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C085-A640-476E-990E-B7FEF00B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C9A5-00E4-4299-B890-00230DD7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F20C-A12B-4BF1-919C-DDA45301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0FA-BA0A-411B-A1C3-869EA219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259C-301F-4253-8709-8FB8A5F1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0082-901E-4731-8D0E-2768ECFC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B321-5732-46B6-953E-FBB8B0843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3745080" cy="73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louette, gentille alouette,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louette, je te plumerai.</a:t>
            </a:r>
            <a:br>
              <a:rPr sz="2400"/>
            </a:b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te plumerai le bec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te plumerai le bec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Et le bec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Et le bec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louett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louett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h !</a:t>
            </a:r>
            <a:br>
              <a:rPr sz="2400"/>
            </a:b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louette, gentille alouette,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louette, je te plumerai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te plumerai la têt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te plumerai la tête 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Et le bec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Et le bec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louett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louett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h 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27640" y="0"/>
            <a:ext cx="3457440" cy="65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louette, gentille alouette,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louette, je te plumerai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Je te plumerai le dos</a:t>
            </a: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Je te plumerai le do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Et la têt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Et la têt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Et le bec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Et le bec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Alouett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Alouett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Ah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louette, gentille alouette,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louette, je te plumerai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00720" y="4508640"/>
            <a:ext cx="289080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0"/>
            <a:ext cx="3384720" cy="70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Lark, nice lark,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Lark, I will pluck you.</a:t>
            </a:r>
            <a:br>
              <a:rPr sz="1800"/>
            </a:b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I will pluck your beak,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I will pluck your beak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And your beak,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And your beak,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Lark,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Lark,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Ah !</a:t>
            </a:r>
            <a:br>
              <a:rPr sz="1800"/>
            </a:b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Lark, nice lark,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Lark, I will pluck you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I will pluck your head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I will pluck your head 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And your beak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And your beak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Lark,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Lark,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Ah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549360"/>
            <a:ext cx="345744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Lark, nice lark,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Lark, I will pluck you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I will pluck your back,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I will pluck your back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And your head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And your head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And your beak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And your beak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Lark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Lark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Ah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Lark, nice lark,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Lark, I will pluck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3T14:43:54Z</dcterms:modified>
  <cp:revision>8</cp:revision>
  <dc:subject/>
  <dc:title>Slide 1</dc:title>
</cp:coreProperties>
</file>