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4C3-083C-4852-8FF1-0168697A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4CE2-BED1-4CB9-912F-7E7ECB49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BFD-E294-400E-8A8A-429630AD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9CF-9EA1-4C2E-B249-887CC3D6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A74-BEE8-46C2-AB1B-3DA26A70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BB0-55FC-48AB-B50E-87D84E8A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E60-00AC-4501-B855-5FD5F374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6FA-B4CA-4538-8043-98113A5B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3C0-D350-405C-8914-FB75245F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EC9-0C0F-4D66-9FF7-AF43FA3D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A098-55B9-45EF-8B35-916C86ED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6EF-0D73-44B2-B0C3-B76804F8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7233-7E23-4C98-9C93-3ACEF49C6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64072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A B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C D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E F G H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I J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K L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M N O P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Q R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S T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U V W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Les trois dernières lettres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sont X, Y et 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11640" y="260280"/>
            <a:ext cx="2370240" cy="2295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00720" y="1197000"/>
            <a:ext cx="2154240" cy="208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2076480" cy="2011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12000" y="2997360"/>
            <a:ext cx="2087280" cy="2022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508720" y="4653000"/>
            <a:ext cx="20160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0"/>
            <a:ext cx="662472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A B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C 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E F G 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I J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K 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M N O 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Q 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S 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U V 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The last three lett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are X, Y and 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3T14:48:28Z</dcterms:modified>
  <cp:revision>10</cp:revision>
  <dc:subject/>
  <dc:title>Slide 1</dc:title>
</cp:coreProperties>
</file>