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310-AC1A-435D-AC2A-588987AD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057-6242-49A2-AC70-445771DE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728-4131-48EF-A0F7-5F32B010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493-97C1-41F0-9C00-48C24FB0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D47-6052-481A-B27A-22ECF602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D34-281A-4AFE-B198-4375FB66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48C-E10A-4D97-8DA3-449FA9A0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E95-BDD6-470C-9C20-EB18B106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743-BDA3-4C57-B2DC-E1E367A4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CF1-E782-478B-A9CF-8122CCB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9A3-622B-4378-9C86-497B645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9BD-54EE-4187-8C54-1CC83DF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1888-0F04-4F4B-A065-AEDC1EF3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640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A B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C D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E F G H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I J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K L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M N O P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Q R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S T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U V W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Les trois dernières lettres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National First Font"/>
              </a:rPr>
              <a:t>sont X, Y et 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2370240" cy="2295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1197000"/>
            <a:ext cx="2154240" cy="20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2076480" cy="201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12000" y="2997360"/>
            <a:ext cx="2087280" cy="202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508720" y="4653000"/>
            <a:ext cx="201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0"/>
            <a:ext cx="66247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A 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C 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E F G 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I J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K 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M N O 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Q 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S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U V 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The last three lett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National First Font"/>
              </a:rPr>
              <a:t>are X, Y and 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48:28Z</dcterms:modified>
  <cp:revision>10</cp:revision>
  <dc:subject/>
  <dc:title>Slide 1</dc:title>
</cp:coreProperties>
</file>