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84D-A5D1-44CA-A600-6FD5BCF8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C5B-CB02-4F33-B7E9-158D2776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CC2-49F1-4984-9BC2-609A9A6E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E18-1C5F-4398-931B-39C5434D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6B8-A785-4B8B-BAA9-D19B8AE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518-74FF-4266-8C32-880646BF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14F-0AEB-4164-AC48-AF711057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04C-4300-4E0E-BE5D-1608B45C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651-5518-4066-9F8E-35E54E31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505-CD50-4305-ADE7-DEABB15A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743-B3AA-4244-B647-00D1D94A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7F1-37F2-46D4-9858-952F6B1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772F-785D-49D6-B691-4F4940E3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0"/>
            <a:ext cx="7561080" cy="89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Je m'baladais sur l'avenue, le cœur ouvert à l'inconnu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J'avais envie de dire bonjour à n'importe qui.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N'importe qui et ce fut toi, je t'ai dit n'importe quoi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Il suffisait de te parler, pour t'apprivoiser</a:t>
            </a:r>
            <a:br>
              <a:rPr sz="2700"/>
            </a:b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ux Champs-Elysées, aux Champs-Elysées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u soleil, sous la pluie, à midi ou à minuit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Il y a tout ce que vous voulez aux Champs-Elysées.</a:t>
            </a:r>
            <a:br>
              <a:rPr sz="2700"/>
            </a:b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Tu m'as dit, "J'ai rendez-vous dans un sous-sol avec des fous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Qui vivent la guitare à la main, du soir au matin."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lors je t'ai accompagnée, on a dansé, on a chanté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Et l'on n'a même pas pensé à s'embrasser.</a:t>
            </a:r>
            <a:br>
              <a:rPr sz="2700"/>
            </a:b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ux Champs-Elysées, aux Champs-Elysées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Au soleil, sous la pluie, à midi ou à minuit,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National First Font"/>
              </a:rPr>
              <a:t>Il y a tout ce que vous voulez aux Champs-Elysé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63817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National First Font"/>
              </a:rPr>
              <a:t>Paroles et Musique: Pierre Delano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4508640"/>
            <a:ext cx="2247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8713800" cy="80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 was strolling along the avenue, my heart open to the unknow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 wanted to say hello to anyo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Anyone, and that was you, I said anything to you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t was enough to talk to you, to tame you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On the Champs-Elysées, on the Champs-Elys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n the sun, in the rain, at midday or at midnigh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There’s everything you want on the Champs-Elysé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You said to me “I’ve got a date in a basement with some crazy peo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Who live with their guitar in their hand from evening until morning.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So I went with you, we danced, we sang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And we didn’t even think of kiss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On the Champs-Elysées, on the Champs-Elysé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In the sun, in the rain, at midday or at midnigh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ational First Font"/>
              </a:rPr>
              <a:t>There’s everything you want on the Champs-Elys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7T14:39:06Z</dcterms:modified>
  <cp:revision>9</cp:revision>
  <dc:subject/>
  <dc:title>Slide 1</dc:title>
</cp:coreProperties>
</file>