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AA4F-940C-4738-BAB9-F942973D3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A33B-859C-4DC5-A0A4-628AC2F20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1BF4-4CC1-4764-9360-097B8BA47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B0BF-BAEE-45A9-8C97-D692B42E0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FCCD-1867-465A-A409-E96CE0C93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161E-7863-4258-B06D-EBB709098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19A3-BF44-4A30-942B-B659160A3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3B2A-67AB-4BDD-82DB-FE8DBFF08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144D-E813-4691-9784-776418D6F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4532-A5F2-4A76-B5DB-2EBE3C15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960F-DFE8-4FA1-A3AA-E62CFC17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2982-E298-4464-99F2-252B2A81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CB8F7-D0A6-41A7-8D6D-70AA479C34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0"/>
            <a:ext cx="7561080" cy="89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National First Font"/>
              </a:rPr>
              <a:t>Je m'baladais sur l'avenue, le cœur ouvert à l'inconnu,</a:t>
            </a:r>
            <a:br>
              <a:rPr sz="2700"/>
            </a:br>
            <a:r>
              <a:rPr b="0" lang="en-GB" sz="2700" spc="-1" strike="noStrike">
                <a:solidFill>
                  <a:srgbClr val="000000"/>
                </a:solidFill>
                <a:latin typeface="National First Font"/>
              </a:rPr>
              <a:t>J'avais envie de dire bonjour à n'importe qui.</a:t>
            </a:r>
            <a:br>
              <a:rPr sz="2700"/>
            </a:br>
            <a:r>
              <a:rPr b="0" lang="en-GB" sz="2700" spc="-1" strike="noStrike">
                <a:solidFill>
                  <a:srgbClr val="000000"/>
                </a:solidFill>
                <a:latin typeface="National First Font"/>
              </a:rPr>
              <a:t>N'importe qui et ce fut toi, je t'ai dit n'importe quoi,</a:t>
            </a:r>
            <a:br>
              <a:rPr sz="2700"/>
            </a:br>
            <a:r>
              <a:rPr b="0" lang="en-GB" sz="2700" spc="-1" strike="noStrike">
                <a:solidFill>
                  <a:srgbClr val="000000"/>
                </a:solidFill>
                <a:latin typeface="National First Font"/>
              </a:rPr>
              <a:t>Il suffisait de te parler, pour t'apprivoiser</a:t>
            </a:r>
            <a:br>
              <a:rPr sz="2700"/>
            </a:br>
            <a:br>
              <a:rPr sz="2700"/>
            </a:br>
            <a:r>
              <a:rPr b="0" lang="en-GB" sz="2700" spc="-1" strike="noStrike">
                <a:solidFill>
                  <a:srgbClr val="000000"/>
                </a:solidFill>
                <a:latin typeface="National First Font"/>
              </a:rPr>
              <a:t>Aux Champs-Elysées, aux Champs-Elysées,</a:t>
            </a:r>
            <a:br>
              <a:rPr sz="2700"/>
            </a:br>
            <a:r>
              <a:rPr b="0" lang="en-GB" sz="2700" spc="-1" strike="noStrike">
                <a:solidFill>
                  <a:srgbClr val="000000"/>
                </a:solidFill>
                <a:latin typeface="National First Font"/>
              </a:rPr>
              <a:t>Au soleil, sous la pluie, à midi ou à minuit,</a:t>
            </a:r>
            <a:br>
              <a:rPr sz="2700"/>
            </a:br>
            <a:r>
              <a:rPr b="0" lang="en-GB" sz="2700" spc="-1" strike="noStrike">
                <a:solidFill>
                  <a:srgbClr val="000000"/>
                </a:solidFill>
                <a:latin typeface="National First Font"/>
              </a:rPr>
              <a:t>Il y a tout ce que vous voulez aux Champs-Elysées.</a:t>
            </a:r>
            <a:br>
              <a:rPr sz="2700"/>
            </a:br>
            <a:br>
              <a:rPr sz="2700"/>
            </a:br>
            <a:r>
              <a:rPr b="0" lang="en-GB" sz="2700" spc="-1" strike="noStrike">
                <a:solidFill>
                  <a:srgbClr val="000000"/>
                </a:solidFill>
                <a:latin typeface="National First Font"/>
              </a:rPr>
              <a:t>Tu m'as dit, "J'ai rendez-vous dans un sous-sol avec des fous</a:t>
            </a:r>
            <a:br>
              <a:rPr sz="2700"/>
            </a:br>
            <a:r>
              <a:rPr b="0" lang="en-GB" sz="2700" spc="-1" strike="noStrike">
                <a:solidFill>
                  <a:srgbClr val="000000"/>
                </a:solidFill>
                <a:latin typeface="National First Font"/>
              </a:rPr>
              <a:t>Qui vivent la guitare à la main, du soir au matin."</a:t>
            </a:r>
            <a:br>
              <a:rPr sz="2700"/>
            </a:br>
            <a:r>
              <a:rPr b="0" lang="en-GB" sz="2700" spc="-1" strike="noStrike">
                <a:solidFill>
                  <a:srgbClr val="000000"/>
                </a:solidFill>
                <a:latin typeface="National First Font"/>
              </a:rPr>
              <a:t>Alors je t'ai accompagnée, on a dansé, on a chanté,</a:t>
            </a:r>
            <a:br>
              <a:rPr sz="2700"/>
            </a:br>
            <a:r>
              <a:rPr b="0" lang="en-GB" sz="2700" spc="-1" strike="noStrike">
                <a:solidFill>
                  <a:srgbClr val="000000"/>
                </a:solidFill>
                <a:latin typeface="National First Font"/>
              </a:rPr>
              <a:t>Et l'on n'a même pas pensé à s'embrasser.</a:t>
            </a:r>
            <a:br>
              <a:rPr sz="2700"/>
            </a:br>
            <a:br>
              <a:rPr sz="2700"/>
            </a:br>
            <a:r>
              <a:rPr b="0" lang="en-GB" sz="2700" spc="-1" strike="noStrike">
                <a:solidFill>
                  <a:srgbClr val="000000"/>
                </a:solidFill>
                <a:latin typeface="National First Font"/>
              </a:rPr>
              <a:t>Aux Champs-Elysées, aux Champs-Elysées,</a:t>
            </a:r>
            <a:br>
              <a:rPr sz="2700"/>
            </a:br>
            <a:r>
              <a:rPr b="0" lang="en-GB" sz="2700" spc="-1" strike="noStrike">
                <a:solidFill>
                  <a:srgbClr val="000000"/>
                </a:solidFill>
                <a:latin typeface="National First Font"/>
              </a:rPr>
              <a:t>Au soleil, sous la pluie, à midi ou à minuit,</a:t>
            </a:r>
            <a:br>
              <a:rPr sz="2700"/>
            </a:br>
            <a:r>
              <a:rPr b="0" lang="en-GB" sz="2700" spc="-1" strike="noStrike">
                <a:solidFill>
                  <a:srgbClr val="000000"/>
                </a:solidFill>
                <a:latin typeface="National First Font"/>
              </a:rPr>
              <a:t>Il y a tout ce que vous voulez aux Champs-Elysé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03640" y="6381720"/>
            <a:ext cx="41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National First Font"/>
              </a:rPr>
              <a:t>Paroles et Musique: Pierre Delano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732720" y="4508640"/>
            <a:ext cx="224784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0"/>
            <a:ext cx="8713800" cy="80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National First Font"/>
              </a:rPr>
              <a:t>TRANSLATION: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National First Font"/>
              </a:rPr>
              <a:t>I was strolling along the avenue, my heart open to the unknown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National First Font"/>
              </a:rPr>
              <a:t>I wanted to say hello to anyon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National First Font"/>
              </a:rPr>
              <a:t>Anyone, and that was you, I said anything to you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National First Font"/>
              </a:rPr>
              <a:t>It was enough to talk to you, to tame you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National First Font"/>
              </a:rPr>
              <a:t>On the Champs-Elysées, on the Champs-Elysé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National First Font"/>
              </a:rPr>
              <a:t>In the sun, in the rain, at midday or at midnight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National First Font"/>
              </a:rPr>
              <a:t>There’s everything you want on the Champs-Elysées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National First Font"/>
              </a:rPr>
              <a:t>You said to me “I’ve got a date in a basement with some crazy peopl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National First Font"/>
              </a:rPr>
              <a:t>Who live with their guitar in their hand from evening until morning.”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National First Font"/>
              </a:rPr>
              <a:t>So I went with you, we danced, we sang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National First Font"/>
              </a:rPr>
              <a:t>And we didn’t even think of kissing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National First Font"/>
              </a:rPr>
              <a:t>On the Champs-Elysées, on the Champs-Elysé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National First Font"/>
              </a:rPr>
              <a:t>In the sun, in the rain, at midday or at midnight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National First Font"/>
              </a:rPr>
              <a:t>There’s everything you want on the Champs-Elysé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09:07:49Z</dcterms:created>
  <dc:creator>Clare</dc:creator>
  <dc:description/>
  <dc:language>en-US</dc:language>
  <cp:lastModifiedBy>Clare</cp:lastModifiedBy>
  <dcterms:modified xsi:type="dcterms:W3CDTF">2008-05-27T14:39:06Z</dcterms:modified>
  <cp:revision>9</cp:revision>
  <dc:subject/>
  <dc:title>Slide 1</dc:title>
</cp:coreProperties>
</file>