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7D5-BF1D-4CF7-94D3-269EE4A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92E-DE7B-4405-A913-161E446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D8B-B346-4869-B63B-9437B43B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265-4080-4290-A961-747069DF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B01-C010-4BDB-B6F2-828BBE6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F9C-6BCA-414C-8823-5045F994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06B-8268-4F57-833D-01F36D8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BD1-D6D6-4F8E-8FFC-FEA145E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511-2D84-4FBB-B9D5-F2C32AA3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F99-7D35-4306-95BE-590E95C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E3F-5C1A-43F1-918D-F6E6CB5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3F6-5E34-4734-ACA2-EAB7D68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371B-91CC-48FF-949F-025D5811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5920"/>
            <a:ext cx="88930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 ?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Savez-vous planter les choux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National First Font"/>
              </a:rPr>
              <a:t>On les plante avec le cou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, à la mod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On les plante avec le doigt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National First Font"/>
              </a:rPr>
              <a:t>A la mode de chez n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3957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68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o you know how to plant cabba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Do you know how to plant cabba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 we do at our hous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finger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fing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 we do at our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(Cho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We plant them with our elbow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National First Font"/>
              </a:rPr>
              <a:t>in the way, in the way…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National First Font"/>
              </a:rPr>
              <a:t>(other parts of the body can be used, e.g. le pied, le genou, le nez, la tê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5T19:28:30Z</dcterms:modified>
  <cp:revision>7</cp:revision>
  <dc:subject/>
  <dc:title>Slide 1</dc:title>
</cp:coreProperties>
</file>