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97B0-69DD-4C20-BBD9-5C27DD22F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1208-5534-4AD5-B7E8-AF18DDA1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3A80-62F5-431F-B850-352A46883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78E7-331F-4681-8C47-0DA94695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F68A-0CB2-408D-96A7-6FAE0959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14F7-D5AA-483F-8C29-1C591A65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BE24-BB3D-4CDD-843A-C2F0F35E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99DE-D257-4BAD-8675-6A6DB2C5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B0D7-0803-4DA2-986A-BF125A2D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D4B4-6B05-49D0-B268-7D3C5C4E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7C39-B44A-494D-8944-8BC548DF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DE8A-19B1-47F9-9435-402BE10E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B99D-25F3-474E-88F4-84A577A0A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15920"/>
            <a:ext cx="889308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National First Font"/>
              </a:rPr>
              <a:t>Savez-vous planter les choux 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National First Font"/>
              </a:rPr>
              <a:t>A la mode, à la mode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National First Font"/>
              </a:rPr>
              <a:t>Savez-vous planter les choux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National First Font"/>
              </a:rPr>
              <a:t>A la mode de chez nous ?</a:t>
            </a:r>
            <a:br>
              <a:rPr sz="3000"/>
            </a:b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National First Font"/>
              </a:rPr>
              <a:t>On les plante avec le doigt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National First Font"/>
              </a:rPr>
              <a:t>A la mode, à la mode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National First Font"/>
              </a:rPr>
              <a:t>On les plante avec le doigt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National First Font"/>
              </a:rPr>
              <a:t>A la mode de chez no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National First Font"/>
              </a:rPr>
              <a:t>Savez-vous planter les choux 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National First Font"/>
              </a:rPr>
              <a:t>A la mode, à la mode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National First Font"/>
              </a:rPr>
              <a:t>Savez-vous planter les choux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National First Font"/>
              </a:rPr>
              <a:t>A la mode de chez nous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National First Font"/>
              </a:rPr>
              <a:t>On les plante avec le coude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National First Font"/>
              </a:rPr>
              <a:t>A la mode, à la mode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National First Font"/>
              </a:rPr>
              <a:t>On les plante avec le doigt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National First Font"/>
              </a:rPr>
              <a:t>A la mode de chez no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43280" y="1989000"/>
            <a:ext cx="395784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0"/>
            <a:ext cx="8964720" cy="68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TRANSL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Do you know how to plant cabbage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In the way, in the way,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Do you know how to plant cabbage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In the way we do at our hous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We plant them with our finger,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In the way, in the way,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We plant them with our finger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In the way we do at our ho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(Chor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We plant them with our elbow,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in the way, in the way…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National First Font"/>
              </a:rPr>
              <a:t>(other parts of the body can be used, e.g. le pied, le genou, le nez, la tê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07:49Z</dcterms:created>
  <dc:creator>Clare</dc:creator>
  <dc:description/>
  <dc:language>en-US</dc:language>
  <cp:lastModifiedBy>Clare</cp:lastModifiedBy>
  <dcterms:modified xsi:type="dcterms:W3CDTF">2008-05-25T19:28:30Z</dcterms:modified>
  <cp:revision>7</cp:revision>
  <dc:subject/>
  <dc:title>Slide 1</dc:title>
</cp:coreProperties>
</file>