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C9F-9F18-451C-AA16-6B426AFA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A92-1EE2-42FC-93EA-A1759BE2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6E7E-96E3-4833-8112-CB5DB442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5550-B9D6-4AD8-9C31-41856E74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968-9CAD-4825-83C2-EE850B0F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C5A-E1AB-450A-857F-AD8C60CB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49E5-EFCF-46AA-A6B0-1BC3A56D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AA7-91A3-4BF4-B3AF-D56EA1F0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408-DA05-4DED-A76A-625C809E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9A71-39A5-4682-A43B-A6605FF6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53B7-3C5E-42CE-8F62-08E27D10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DA4-F549-4337-A213-0523685A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603B-FCF2-4908-B243-67362D526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756144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National First Font"/>
              </a:rPr>
              <a:t>A la claire fontaine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National First Font"/>
              </a:rPr>
              <a:t>M'en allant promener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National First Font"/>
              </a:rPr>
              <a:t>J'ai trouvé l'eau si clair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National First Font"/>
              </a:rPr>
              <a:t>Que je m'y suis baigné.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National First Font"/>
              </a:rPr>
              <a:t>Il y a longtemps que je t'aime,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National First Font"/>
              </a:rPr>
              <a:t>Jamais je ne t'oubliera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37360" y="3429000"/>
            <a:ext cx="26812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0"/>
            <a:ext cx="89647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At the clear fountain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aking myself for a walk there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I found the water so clea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hat I bathed there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A long time ago I loved you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I will never forget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9T14:14:14Z</dcterms:modified>
  <cp:revision>38</cp:revision>
  <dc:subject/>
  <dc:title>Slide 1</dc:title>
</cp:coreProperties>
</file>