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76A-7129-416B-9A53-5F1CAC62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9D9-8DFD-4CA1-8E3E-9D7B174C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995-666B-4AD9-9086-E309E4A7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F89-798C-427A-A439-463882D1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E3B-B00E-4CA5-99C3-B15211C6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5FB-3E7F-47C8-8B57-FAC54D76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182-FB65-41A9-9DDB-06CEB9BD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241-8909-4E32-8E33-686D22AA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455-54D7-42FF-88AF-2F6DC7E4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7D3-BB9C-40FF-8A18-CE6052D7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931-CF7A-4791-94A8-FFB04AAB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45B-63B1-4A31-BA49-A02D615C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2182-CB4C-4636-85F1-3A0EB8D6C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756144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A la claire fontaine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M'en allant promener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J'ai trouvé l'eau si clair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Que je m'y suis baigné.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Il y a longtemps que je t'aime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Jamais je ne t'oubliera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37360" y="3429000"/>
            <a:ext cx="26812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9647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At the clear fountain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aking myself for a walk there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I found the water so clea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hat I bathed there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A long time ago I loved you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I will never forget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9T14:14:14Z</dcterms:modified>
  <cp:revision>38</cp:revision>
  <dc:subject/>
  <dc:title>Slide 1</dc:title>
</cp:coreProperties>
</file>