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8477-A183-45F5-98B4-75A8531E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662-071F-4023-903F-A078A9EA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5AB-4A5E-4085-A4E6-E5C878C8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C15-EB0D-4170-B3B9-183B0FB4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9E8-AAD8-4166-B251-2B4AF9AA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4913-022E-4AAF-9775-B129C29B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F52-15CF-40AB-BEE5-F5FFE890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5ED-A1E4-4BDC-B45A-FC56460D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CC2-CA3D-4770-9864-393752A2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C2A-F1E0-40C9-8F8D-3054736D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3789-86BA-46DB-B840-7D28108E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4D1-13D5-4A8A-8842-44AE348B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355A-40A6-4CBE-B14B-4DAE674A1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7561440" cy="65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J’ai rencontré Coco le petit singe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Dans sa cabane au zoo de Toronto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Et il m’a dit (tap tap tap)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Attention (tap tap tap)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Mes amis, la main droite va commencer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J’ai rencontré Coco le petit singe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Dans sa cabane au zoo de Toronto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Et il m’a dit (tap tap tap)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Attention (tap tap tap)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Mes amis la main gauche va commencer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J’ai rencontré Coco le petit singe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Dans sa cabane au zoo de Toronto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Et il m’a dit (tap tap tap)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Attention (tap tap tap)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Mes amis, le pied droit va commence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.......le pied gauche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.......la tê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407196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8964720" cy="79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I met Coco the little monkey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In his little house at Toronto zoo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And he said to me (clap clap clap)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Watch out ! (clap clap clap)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My friends, the right hand is going to start !</a:t>
            </a: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National First Font"/>
              </a:rPr>
              <a:t>(wave the right hand)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I met Coco the little monkey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In his little house at Toronto zoo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And he said to me (clap clap clap)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Watch out ! (clap clap clap)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My friends, the left hand is going to start !</a:t>
            </a: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National First Font"/>
              </a:rPr>
              <a:t>(wave the right hand and the left hand)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I met Coco the little monkey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In his little house at Toronto zoo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And he said to me (clap clap clap)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Watch out ! (clap clap clap)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My friends, the right foot is going to start !</a:t>
            </a: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National First Font"/>
              </a:rPr>
              <a:t>(wave both hands and stamp the right foot)</a:t>
            </a:r>
            <a:br>
              <a:rPr sz="1900"/>
            </a:br>
            <a:br>
              <a:rPr sz="1900"/>
            </a:b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.......the left foot</a:t>
            </a: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pt-BR" sz="1900" spc="-1" strike="noStrike">
                <a:solidFill>
                  <a:srgbClr val="ff0000"/>
                </a:solidFill>
                <a:latin typeface="National First Font"/>
              </a:rPr>
              <a:t>(wave both hands and stamp both feet)</a:t>
            </a:r>
            <a:br>
              <a:rPr sz="1900"/>
            </a:br>
            <a:br>
              <a:rPr sz="1900"/>
            </a:b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.......the head</a:t>
            </a: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National First Font"/>
              </a:rPr>
              <a:t>     </a:t>
            </a:r>
            <a:r>
              <a:rPr b="0" lang="pt-BR" sz="1900" spc="-1" strike="noStrike">
                <a:solidFill>
                  <a:srgbClr val="ff0000"/>
                </a:solidFill>
                <a:latin typeface="National First Font"/>
              </a:rPr>
              <a:t>(wave both hands, stamp both feet and nod the hea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7T20:17:01Z</dcterms:modified>
  <cp:revision>21</cp:revision>
  <dc:subject/>
  <dc:title>Slide 1</dc:title>
</cp:coreProperties>
</file>