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228-133A-4E80-B4C5-7E52B465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0C2-884F-4319-B811-679CD7C7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DD2-DDD2-4303-85DF-7F9DCDD4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D10-394F-4D2C-A595-FC2E45FC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8B6A-05F8-4BC3-A799-07BBE065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A1B-E6E3-4BFA-9966-D6A85151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189-2DD1-4D4C-A54A-6474F115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022-FA51-4E69-9328-93BBDF98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E52-8528-4E09-B150-BAA8968D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05BF-8BBD-4776-9BAD-5481BE25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907-6204-4AD6-BB69-5962B169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336F-4FF6-412E-ADDF-BFF4D688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C846-3E5C-4308-9F2D-FFD655CB5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7561440" cy="65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J’ai rencontré Coco le petit singe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Dans sa cabane au zoo de Toronto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Et il m’a dit (tap tap tap)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Attention (tap tap tap)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Mes amis, la main droite va commencer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J’ai rencontré Coco le petit singe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Dans sa cabane au zoo de Toronto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Et il m’a dit (tap tap tap)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Attention (tap tap tap)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Mes amis la main gauche va commencer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J’ai rencontré Coco le petit singe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Dans sa cabane au zoo de Toronto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Et il m’a dit (tap tap tap)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Attention (tap tap tap)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Mes amis, le pied droit va commence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.......le pied gauche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.......la tê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407196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8964720" cy="79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I met Coco the little monkey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In his little house at Toronto zoo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And he said to me (clap clap clap)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Watch out ! (clap clap clap)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My friends, the right hand is going to start !</a:t>
            </a: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National First Font"/>
              </a:rPr>
              <a:t>(wave the right hand)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I met Coco the little monkey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In his little house at Toronto zoo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And he said to me (clap clap clap)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Watch out ! (clap clap clap)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My friends, the left hand is going to start !</a:t>
            </a: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National First Font"/>
              </a:rPr>
              <a:t>(wave the right hand and the left hand)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I met Coco the little monkey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In his little house at Toronto zoo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And he said to me (clap clap clap)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Watch out ! (clap clap clap)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My friends, the right foot is going to start !</a:t>
            </a: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National First Font"/>
              </a:rPr>
              <a:t>(wave both hands and stamp the right foot)</a:t>
            </a:r>
            <a:br>
              <a:rPr sz="1900"/>
            </a:br>
            <a:br>
              <a:rPr sz="1900"/>
            </a:b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.......the left foot</a:t>
            </a: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pt-BR" sz="1900" spc="-1" strike="noStrike">
                <a:solidFill>
                  <a:srgbClr val="ff0000"/>
                </a:solidFill>
                <a:latin typeface="National First Font"/>
              </a:rPr>
              <a:t>(wave both hands and stamp both feet)</a:t>
            </a:r>
            <a:br>
              <a:rPr sz="1900"/>
            </a:br>
            <a:br>
              <a:rPr sz="1900"/>
            </a:b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.......the head</a:t>
            </a: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     </a:t>
            </a:r>
            <a:r>
              <a:rPr b="0" lang="pt-BR" sz="1900" spc="-1" strike="noStrike">
                <a:solidFill>
                  <a:srgbClr val="ff0000"/>
                </a:solidFill>
                <a:latin typeface="National First Font"/>
              </a:rPr>
              <a:t>(wave both hands, stamp both feet and nod the hea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7T20:17:01Z</dcterms:modified>
  <cp:revision>21</cp:revision>
  <dc:subject/>
  <dc:title>Slide 1</dc:title>
</cp:coreProperties>
</file>