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359-B97A-41AA-B449-BE9A8683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E80-E226-4C7E-8256-9D78D41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31F-3A60-4832-A8DF-0B999460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26D-CFEF-4251-9D79-189A3E61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B0A-C16A-4F4D-BEB9-9689B495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AE8-8A49-4ADB-9055-1537A85E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0D7-0EE7-4B55-A7CC-5C4AEAFF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EF6-2D34-43B3-A797-80BE718E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1CF-166A-4E7A-BE53-97AC9980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DD5-E384-42A4-B2CC-BE2D09D2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EC1-AD31-4E4F-9BE7-39BB9930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06F-0165-463B-A84D-1FDF0B53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7A8D-0310-42CE-8EB4-6103428E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964720" cy="67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J'ai descendu dans mon jardin (x2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Pour y cueillir du romarin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, Mesdam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 nouveau !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Je n'en avais pas cueilli trois brins (x2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Qu'un rossignol vint sur ma main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, Mesdam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 nouveau !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Il me dit trois mots en latin, (x2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Que les bonhommes ne valent rien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, Mesdam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 nouveau !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Des bons amis il ne me dit rien (x2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Les desmoiselles beaucoup de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, Mesdam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 nouveau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28558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67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I went down to my garden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To pick some rosemary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poppy, ladi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new poppy !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I hadn’t even picked three strands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When a nightingale came to my hand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poppy, ladi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new poppy 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He said three words to me in Latin,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That men are worth nothing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poppy, ladi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new poppy !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It told me nothing about good friends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Lots of useful things about young lad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poppy, ladi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new poppy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5:09:59Z</dcterms:modified>
  <cp:revision>13</cp:revision>
  <dc:subject/>
  <dc:title>Slide 1</dc:title>
</cp:coreProperties>
</file>