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4B2-5C28-4D37-8C0E-942932D9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CDC-32E3-4A6C-888D-13F83BD6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104-9310-4CAF-94A8-2F018A34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AB3-081F-4DCA-886D-48910953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705-1683-4CE0-920C-0C2DD4F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987-DCF9-4A9A-975C-FC2C6382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467-B0D6-48CC-9C7C-663AC71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332-D313-4A5A-B713-49AA517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279-A590-4240-B522-1DE7A87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C92-4EA3-4D50-83F0-358DADF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370-9B2B-4B67-B9CF-90E7BAE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D36-8070-4C4D-A098-82B1E88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829-BDF0-4344-A3C9-AFD3FFE7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964720" cy="67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'ai descendu dans mon jardin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Pour y cueillir du romari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e n'en avais pas cueilli trois brins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Qu'un rossignol vint sur ma mai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Il me dit trois mots en latin,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Que les bonhommes ne valent rien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Des bons amis il ne me dit rien (x2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Les desmoiselles beaucoup de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, Mesdam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Gentil coquelicot nouvea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855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 went down to my garden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o pick some rosemar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 hadn’t even picked three strand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When a nightingale came to my hand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He said three words to me in Latin,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That men are worth nothing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It told me nothing about good friends (x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Lots of useful things about young lad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poppy, ladi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National First Font"/>
              </a:rPr>
              <a:t>Sweet new poppy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9:59Z</dcterms:modified>
  <cp:revision>13</cp:revision>
  <dc:subject/>
  <dc:title>Slide 1</dc:title>
</cp:coreProperties>
</file>