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8693-D348-49FC-AF10-4F954B33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9142-C34B-4D7C-A3F4-AFAFB442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FD8A-46F0-4346-8707-F6E98E6C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2B35-37CB-4C94-9665-97D9396B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CE3E-BBA0-472A-AE25-2F4507E4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CBC2-A71E-46E4-B01F-E6E67DAF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E881-183E-4F4A-B7B8-4A0F301C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709C-36BB-4485-8632-1B82EDB5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D704-E348-4E2F-A21C-954398F2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EC0-C260-4FC8-ADEB-C4EF67D4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35C7-EC0B-4828-BEDC-FFC02138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17E1-86A7-44F5-A1F9-DF1B559C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C087-F0A8-4EEE-ACD4-2AFADF0D4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8282160" cy="68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mets le doigt devant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mets le doigt derrière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mets le doigt devant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fais de tous petits ronds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fais le boogie woogie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fais le tour de moi même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Et je vais en avant</a:t>
            </a:r>
            <a:br>
              <a:rPr sz="2400"/>
            </a:b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mets la main devant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mets la main derrière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mets la main devant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fais de tous petits ronds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fais le boogie woogie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fais le tour de moi même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Et je vais en avant</a:t>
            </a:r>
            <a:br>
              <a:rPr sz="2400"/>
            </a:b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mets le coude devant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mets le coude derrière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mets le coude devant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fais de tous petits ronds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fais le boogie woogie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fais le tour de moi même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Et je vais en avant</a:t>
            </a: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3800520" cy="39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189000"/>
            <a:ext cx="8713800" cy="62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put my finger in fron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put my finger behi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put my finger in fron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make little circl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do the boogie woogi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turn arou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And I go for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put my hand in fron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put my hand behi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put my hand in fron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make little circl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do the boogie woogi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turn arou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And I go for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put my elbow in fron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put my elbow behi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put my elbow in fron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make little circl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do the boogie woogi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turn arou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And I go for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4365720"/>
            <a:ext cx="44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ational First Font"/>
              </a:rPr>
              <a:t>Just as in the English version, the song can continue with other parts of the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3T15:06:02Z</dcterms:modified>
  <cp:revision>5</cp:revision>
  <dc:subject/>
  <dc:title>Slide 1</dc:title>
</cp:coreProperties>
</file>