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AF9-7BF0-458A-A629-B883F404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5FC-6D5A-4C71-AA61-40E5FDD0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45E-EB3B-41A7-BA18-C65DDAA6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694-EDC0-46B5-89F5-AEE6AD14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3A7-3406-4EBD-8FFB-6D56960B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605-14C9-4D4E-B7FB-7EB887A1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6A2-3DA3-4ACD-A475-6D39AF0F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FD4-FB53-4484-AEBF-594D78EE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F73-7B8F-4931-A245-6D5AB5DA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7B0-9EC5-4C81-9432-F9534904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934-23A0-4148-B64A-5F77605C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FE8-E12E-40D8-AC14-F1D3C4F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EA31-B71C-4492-B230-1D532993B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282160" cy="68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e doigt devant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e doigt derrièr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e doigt devant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de tous petits ronds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le boogie woogi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le tour de moi mêm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je vais en avant</a:t>
            </a:r>
            <a:br>
              <a:rPr sz="2400"/>
            </a:b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a main devant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a main derrièr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a main devant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de tous petits ronds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le boogie woogi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le tour de moi mêm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je vais en avant</a:t>
            </a:r>
            <a:br>
              <a:rPr sz="2400"/>
            </a:b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e coude devant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e coude derrièr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mets le coude devant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de tous petits ronds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le boogie woogi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fais le tour de moi mêm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je vais en avant</a:t>
            </a: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380052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713800" cy="62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finger in fro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finger beh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finger in fro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make little circl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do the boogie woogi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turn arou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nd I go for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hand in fro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hand beh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hand in fro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make little circl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do the boogie woogi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turn arou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nd I go for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elbow in fro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elbow beh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put my elbow in fro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make little circl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do the boogie woogi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 turn arou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nd I go for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436572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ational First Font"/>
              </a:rPr>
              <a:t>Just as in the English version, the song can continue with other part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5:06:02Z</dcterms:modified>
  <cp:revision>5</cp:revision>
  <dc:subject/>
  <dc:title>Slide 1</dc:title>
</cp:coreProperties>
</file>