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E4B-09FA-4B90-B570-0C412E12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8BD-CF0C-4357-8F12-211F2F7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03E-3BF7-4FDF-A2BF-2EF4742E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758-18CA-4A25-BAC4-266AACC7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549-36BC-4EDB-A678-4A6EAC02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7CB-E89E-421C-B548-7544C093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6CA-D26F-41CA-8B25-4CF8741E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1DB-4750-4D0D-9979-D4E7E80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EA1-3E0D-4971-B8FE-0C8828CA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7BB-E8F7-454B-8336-4B8C80C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DFB-A7A8-4A62-8488-A71AA4B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953-551E-4BF8-9CBE-AD51374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76C9-3F05-490C-BB7E-A22CCD03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964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ans la forêt lointai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On entend le coucou 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u haut de son grand chê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Il répond au hib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hibou, coucou, hib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hibou, coucou, hib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ans la forêt lointai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On entend le hibou 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Du haut de son grand hêt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Il répond au couc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, couc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, coucou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Coucou, coucou, couc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543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8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In the far-off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You can hear the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From the top of his big oak tre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eplies to the 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owl, cuckoo, ow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owl, cuckoo, ow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In the far-off fore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You can hear the ow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From the top of his big bee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He replies to the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, cuck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, cuck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ational First Font"/>
              </a:rPr>
              <a:t>Cuckoo, cuckoo, cuck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27:05Z</dcterms:modified>
  <cp:revision>14</cp:revision>
  <dc:subject/>
  <dc:title>Slide 1</dc:title>
</cp:coreProperties>
</file>