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374-9A81-4B4E-B1C5-3B041E52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88F-19F1-486B-A1E3-A059D449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69C-FAEE-4157-B1AE-9B9BF270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04C-F38D-4413-8DF4-35ADF71A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8AB-048C-4512-ADB5-40520ED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0C7-6D11-4F19-96E8-ABD05F4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670-BA11-47EB-8C91-B447769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118-01D4-4096-BD87-F4E271B8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458-6497-4E82-AF21-A4CE5F0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DB9-3D04-460B-BB86-F6BEBA5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B33-FF92-4621-92D0-3CDC53B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26A-34C2-446C-8F2F-736F6C6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9E2-A26D-46F1-A534-61AD8E442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ans la forêt lointai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On entend le coucou 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u haut de son grand chê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Il répond au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hibou, coucou,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hibou, coucou,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ans la forêt lointai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On entend le hibou 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u haut de son grand hêt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Il répond au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,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,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543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8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In the far-off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You can hear the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From the top of his big oak tre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eplies to the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owl, cuckoo, ow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owl, cuckoo, ow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In the far-off fore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You can hear the ow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From the top of his big bee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eplies to the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, cuck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, cuck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7:05Z</dcterms:modified>
  <cp:revision>14</cp:revision>
  <dc:subject/>
  <dc:title>Slide 1</dc:title>
</cp:coreProperties>
</file>