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E03-FCCD-4BAD-8575-A97E2F4E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329-8329-4FCE-A18D-22A6E259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EB0-CB45-4610-B918-D6099EC8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6E5-DA88-44B4-98B0-AC519A21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4AE-D4C1-47EF-AD22-5BC687F2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09A-ADDD-4937-9B83-3D983F6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986-F766-49A8-A811-3D0A424D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113-6682-4E3C-89B5-951E137E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43E-502D-4F93-BD8B-D6F8123B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DA3-C0F6-4F40-9123-118CB5F1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CC6-4952-47B7-9CCB-6FFC544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267-FC8E-4B31-B053-8CAAD1D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2D08-72B2-45C1-8C44-374652C90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518472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National First Font"/>
              </a:rPr>
              <a:t>Frère Jacques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National First Font"/>
              </a:rPr>
              <a:t>Frère Jacques 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National First Font"/>
              </a:rPr>
              <a:t>Dormez-vous ?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National First Font"/>
              </a:rPr>
              <a:t>Dormez-vous ?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Sonnez les matines !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Sonnez les matines !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Ding, ding, dong !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Ding, ding, dong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638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138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Brother Joh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Brother Joh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Are you sleeping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Are you sleeping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Ring the bells for matins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Ring the bells for matins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Ding, dang, dong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Ding, dang, dong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5T19:32:06Z</dcterms:modified>
  <cp:revision>3</cp:revision>
  <dc:subject/>
  <dc:title>Slide 1</dc:title>
</cp:coreProperties>
</file>