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F157-197D-4D9A-94B2-69905B686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12B1-EE14-45B2-A7E0-8AD12E072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9FA2-8304-4FFA-AF21-14B7BFD4F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9C3B-523E-412E-BADD-2A3B7B7E5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45AB-332A-49DA-A701-5D3378130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F925-4FAB-4741-BEA0-4B653441F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6EC2-619E-4609-BA6E-984CA133C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612F-A0C8-4AE8-95CE-E315CB294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7F87-3156-4E6E-8691-8FD91F309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74A9-4E80-4928-9650-FA18036D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36E7-9E09-4EB2-9A7C-84BE7B7A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5A50-D5A7-413C-8726-2E2656D0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F909D-D480-49E7-AAC1-9546296E8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0"/>
            <a:ext cx="5184720" cy="9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00000"/>
                </a:solidFill>
                <a:latin typeface="National First Font"/>
              </a:rPr>
              <a:t>Frère Jacques</a:t>
            </a:r>
            <a:br>
              <a:rPr sz="5400"/>
            </a:br>
            <a:r>
              <a:rPr b="0" lang="pt-BR" sz="5400" spc="-1" strike="noStrike">
                <a:solidFill>
                  <a:srgbClr val="000000"/>
                </a:solidFill>
                <a:latin typeface="National First Font"/>
              </a:rPr>
              <a:t>Frère Jacques </a:t>
            </a:r>
            <a:br>
              <a:rPr sz="5400"/>
            </a:br>
            <a:r>
              <a:rPr b="0" lang="pt-BR" sz="5400" spc="-1" strike="noStrike">
                <a:solidFill>
                  <a:srgbClr val="000000"/>
                </a:solidFill>
                <a:latin typeface="National First Font"/>
              </a:rPr>
              <a:t>Dormez-vous ?</a:t>
            </a:r>
            <a:br>
              <a:rPr sz="5400"/>
            </a:br>
            <a:r>
              <a:rPr b="0" lang="pt-BR" sz="5400" spc="-1" strike="noStrike">
                <a:solidFill>
                  <a:srgbClr val="000000"/>
                </a:solidFill>
                <a:latin typeface="National First Font"/>
              </a:rPr>
              <a:t>Dormez-vous ?</a:t>
            </a:r>
            <a:br>
              <a:rPr sz="5400"/>
            </a:br>
            <a:r>
              <a:rPr b="0" lang="nb-NO" sz="5400" spc="-1" strike="noStrike">
                <a:solidFill>
                  <a:srgbClr val="000000"/>
                </a:solidFill>
                <a:latin typeface="National First Font"/>
              </a:rPr>
              <a:t>Sonnez les matines !</a:t>
            </a:r>
            <a:br>
              <a:rPr sz="5400"/>
            </a:br>
            <a:r>
              <a:rPr b="0" lang="nb-NO" sz="5400" spc="-1" strike="noStrike">
                <a:solidFill>
                  <a:srgbClr val="000000"/>
                </a:solidFill>
                <a:latin typeface="National First Font"/>
              </a:rPr>
              <a:t>Sonnez les matines !</a:t>
            </a:r>
            <a:br>
              <a:rPr sz="5400"/>
            </a:br>
            <a:r>
              <a:rPr b="0" lang="nb-NO" sz="5400" spc="-1" strike="noStrike">
                <a:solidFill>
                  <a:srgbClr val="000000"/>
                </a:solidFill>
                <a:latin typeface="National First Font"/>
              </a:rPr>
              <a:t>Ding, ding, dong !</a:t>
            </a:r>
            <a:br>
              <a:rPr sz="5400"/>
            </a:br>
            <a:r>
              <a:rPr b="0" lang="nb-NO" sz="5400" spc="-1" strike="noStrike">
                <a:solidFill>
                  <a:srgbClr val="000000"/>
                </a:solidFill>
                <a:latin typeface="National First Font"/>
              </a:rPr>
              <a:t>Ding, ding, dong 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435640" y="333360"/>
            <a:ext cx="336384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9280" y="189000"/>
            <a:ext cx="8713800" cy="58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National First Font"/>
              </a:rPr>
              <a:t>TRANSLAT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National First Font"/>
              </a:rPr>
              <a:t>Brother John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National First Font"/>
              </a:rPr>
              <a:t>Brother John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National First Font"/>
              </a:rPr>
              <a:t>Are you sleeping 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National First Font"/>
              </a:rPr>
              <a:t>Are you sleeping 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National First Font"/>
              </a:rPr>
              <a:t>Ring the bells for matins !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National First Font"/>
              </a:rPr>
              <a:t>Ring the bells for matins !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National First Font"/>
              </a:rPr>
              <a:t>Ding, dang, dong !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National First Font"/>
              </a:rPr>
              <a:t>Ding, dang, dong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09:07:49Z</dcterms:created>
  <dc:creator>Clare</dc:creator>
  <dc:description/>
  <dc:language>en-US</dc:language>
  <cp:lastModifiedBy>Clare</cp:lastModifiedBy>
  <dcterms:modified xsi:type="dcterms:W3CDTF">2008-05-25T19:32:06Z</dcterms:modified>
  <cp:revision>3</cp:revision>
  <dc:subject/>
  <dc:title>Slide 1</dc:title>
</cp:coreProperties>
</file>