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23F-DA8A-4521-BDF7-AE3AE62D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7F1-C1D1-49DC-A676-D20679DA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5D6-27B4-46F4-8266-16BC6448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554-EFD7-4BE8-87FB-CC2A7C61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009-8161-46BA-8E2B-F7FD71F1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514-7C1B-493E-AF57-D600BF5C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120-EBD6-4FBA-9FA7-FB83FB87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CDC-90D6-47B7-B547-8F3C6ECA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E96-5CB6-41FA-B23F-C20D572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4C9-1C34-4441-9527-C9AFA87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24B-C118-49CA-A901-417B442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E7B-BDA8-4A5C-AAF8-EB136E3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855-F40C-49A5-BA80-9080B84FD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75610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, Mesdames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 joli.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est passé par ici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, Mesdames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est passé par ici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 joli.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, Mesdames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 jo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Musiques gratuites. Ces chansons traditionnelles sont offertes gratuitement à tous les enfants. Pour chaque chanson traditionnelle, sur le site pour enfants de Stéphy vous trouvez : la version intégrale chantée par l'équipe de Stéphy, la version intégrale instrumentale, une illustration, un coloriage et les paroles de la chanson. La première chanson, au clair de la lune."/>
          <p:cNvPicPr/>
          <p:nvPr/>
        </p:nvPicPr>
        <p:blipFill>
          <a:blip r:embed="rId1"/>
          <a:stretch/>
        </p:blipFill>
        <p:spPr>
          <a:xfrm>
            <a:off x="4859280" y="4653000"/>
            <a:ext cx="4130640" cy="170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35640" y="645336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www.coloriages-pour-enfant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71380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woods, Ladi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pretty woo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passed this w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woods, Ladi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passed this w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pretty woo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woods, Ladi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pretty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4:27:34Z</dcterms:modified>
  <cp:revision>14</cp:revision>
  <dc:subject/>
  <dc:title>Slide 1</dc:title>
</cp:coreProperties>
</file>