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D44-557A-4CC0-936A-6E538342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307-30FA-43E8-816B-B707191E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B36-BAEA-4C6A-A409-C33EE5CA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FD74-D8CC-4ADF-91D1-72641FE6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7C2-B891-46BC-B611-F14C75EB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A4A-2C36-4A72-BA09-ABF76436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C77-C888-4F36-A6AC-3AC6A058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CAA-E1AA-4C1E-A721-7FA9784C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C07-9362-4106-B8AA-982D3935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C8E-213A-4EA9-B085-A70B8A3D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33B-79D3-4134-8600-E9A66FC6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F0B-7CC3-4803-9FAE-2CF5F1A4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DF34-B678-4A88-89EC-F95B1E207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0"/>
            <a:ext cx="756108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Il court, il court, le fure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Le furet du bois, Mesdames,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Il court, il court, le furet,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Le furet du bois joli.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Il est passé par ici,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Le furet du bois, Mesdames,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Il est passé par ici,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Le furet du bois joli.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Il court, il court, le fure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Le furet du bois, Mesdames,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Il court, il court, le furet,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Le furet du bois jo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Musiques gratuites. Ces chansons traditionnelles sont offertes gratuitement à tous les enfants. Pour chaque chanson traditionnelle, sur le site pour enfants de Stéphy vous trouvez : la version intégrale chantée par l'équipe de Stéphy, la version intégrale instrumentale, une illustration, un coloriage et les paroles de la chanson. La première chanson, au clair de la lune."/>
          <p:cNvPicPr/>
          <p:nvPr/>
        </p:nvPicPr>
        <p:blipFill>
          <a:blip r:embed="rId1"/>
          <a:stretch/>
        </p:blipFill>
        <p:spPr>
          <a:xfrm>
            <a:off x="4859280" y="4653000"/>
            <a:ext cx="4130640" cy="170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435640" y="645336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ttp://www.coloriages-pour-enfant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871380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runs, he runs, the ferre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The ferret of the woods, Ladi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runs, he runs, the ferr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The ferret of the pretty wood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passed this wa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The ferret of the woods, Ladi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passed this wa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The ferret of the pretty wood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runs, he runs, the ferre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The ferret of the woods, Ladi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runs, he runs, the ferr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The ferret of the pretty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14:27:34Z</dcterms:modified>
  <cp:revision>14</cp:revision>
  <dc:subject/>
  <dc:title>Slide 1</dc:title>
</cp:coreProperties>
</file>