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77B-6DDD-4EF1-B392-63749CB6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305-1B11-4DBA-B305-764AAA55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9C8-0943-47C5-95AF-8D650F36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2EE-304D-4651-9E75-9989733F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F4F-048D-45E9-89ED-C3CCADE2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983-6597-40B6-AF66-AE1D0F3B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022-EC82-4124-ADC7-4EE7546B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6E1-B8AE-48D6-A876-5D486BC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A89-170F-4832-8DD7-28300DA9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CAE-5A1D-476C-A6AC-869F375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4FD-2E51-498A-95B2-7669C4BE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D9B-7AE0-4EE9-9E5C-3543D0F5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2FC9-FC83-44E2-8240-C3D5E6E0C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1378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Un grand cerf, dans sa maison,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Regardait par la fenêtre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Un lapin venir à lui,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Et crier ainsi: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"Cerf, cerf, ouvre-moi,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National First Font"/>
              </a:rPr>
              <a:t>Ou le chasseur me tuera !"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"Lapin, lapin, entre et viens,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Me serrer la main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76720" y="3803760"/>
            <a:ext cx="39243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A big deer, in his house,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draw a house in the air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Was watching through the window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 hand above the eyes, looking in the distance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A rabbit coming to him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make hand into rabbit and make it hop along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And shouting in this way: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hands like a megaphone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”Deer, deer, open the door,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pretend to knock at the door</a:t>
            </a:r>
            <a:br>
              <a:rPr sz="3600"/>
            </a:br>
            <a:r>
              <a:rPr b="0" lang="nb-NO" sz="3600" spc="-1" strike="noStrike">
                <a:solidFill>
                  <a:srgbClr val="000000"/>
                </a:solidFill>
                <a:latin typeface="National First Font"/>
              </a:rPr>
              <a:t>Or the hunter will kill me !”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nb-NO" sz="1800" spc="-1" strike="noStrike">
                <a:solidFill>
                  <a:srgbClr val="ff0000"/>
                </a:solidFill>
                <a:latin typeface="National First Font"/>
              </a:rPr>
              <a:t>pretend to shoot a gu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“Rabbit, rabbit, come in and come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beckon the rabbit i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National First Font"/>
              </a:rPr>
              <a:t>To shake my hand.“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National First Font"/>
              </a:rPr>
              <a:t>shake your two hand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20:06:09Z</dcterms:modified>
  <cp:revision>45</cp:revision>
  <dc:subject/>
  <dc:title>Slide 1</dc:title>
</cp:coreProperties>
</file>