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1FA9-4A0A-4F10-B960-16E29C592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A946-D96C-42D2-B4A1-A01F8DF7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F34D-552D-4E41-A54F-29E2679C6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CB4F-E560-465B-8B81-FE7EE7276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FB16-F701-4381-AA7D-9D4ECC45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0A04-D81E-46B8-BB11-6E8BAD4A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48B1-C967-44DF-B887-A9E27597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C289-9CD8-4CB1-9987-E68902A6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585A-E1DD-41C0-881C-A56AA949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3E28-5DEA-4D2B-A2AF-FBAE984E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0D4C-C36E-4878-9B0E-23A48958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1234-9674-4880-A2CD-0C9DDC2C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6AD9-E542-46F8-B604-9BEDFD075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0"/>
            <a:ext cx="864072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5400" spc="-1" strike="noStrike">
                <a:solidFill>
                  <a:srgbClr val="000000"/>
                </a:solidFill>
                <a:latin typeface="National First Font"/>
              </a:rPr>
              <a:t>J'aime la galette,</a:t>
            </a:r>
            <a:br>
              <a:rPr sz="5400"/>
            </a:br>
            <a:r>
              <a:rPr b="0" lang="nb-NO" sz="5400" spc="-1" strike="noStrike">
                <a:solidFill>
                  <a:srgbClr val="000000"/>
                </a:solidFill>
                <a:latin typeface="National First Font"/>
              </a:rPr>
              <a:t>Savez-vous comment ?</a:t>
            </a:r>
            <a:br>
              <a:rPr sz="5400"/>
            </a:br>
            <a:r>
              <a:rPr b="0" lang="nb-NO" sz="5400" spc="-1" strike="noStrike">
                <a:solidFill>
                  <a:srgbClr val="000000"/>
                </a:solidFill>
                <a:latin typeface="National First Font"/>
              </a:rPr>
              <a:t>Quand elle est bien faite</a:t>
            </a:r>
            <a:br>
              <a:rPr sz="5400"/>
            </a:br>
            <a:r>
              <a:rPr b="0" lang="nb-NO" sz="5400" spc="-1" strike="noStrike">
                <a:solidFill>
                  <a:srgbClr val="000000"/>
                </a:solidFill>
                <a:latin typeface="National First Font"/>
              </a:rPr>
              <a:t>Avec du beurre dedans</a:t>
            </a:r>
            <a:br>
              <a:rPr sz="5400"/>
            </a:br>
            <a:r>
              <a:rPr b="0" lang="nb-NO" sz="5400" spc="-1" strike="noStrike">
                <a:solidFill>
                  <a:srgbClr val="000000"/>
                </a:solidFill>
                <a:latin typeface="National First Font"/>
              </a:rPr>
              <a:t>Tra-la-la-la-la-la-la-la-lère,</a:t>
            </a:r>
            <a:br>
              <a:rPr sz="5400"/>
            </a:br>
            <a:r>
              <a:rPr b="0" lang="nb-NO" sz="5400" spc="-1" strike="noStrike">
                <a:solidFill>
                  <a:srgbClr val="000000"/>
                </a:solidFill>
                <a:latin typeface="National First Font"/>
              </a:rPr>
              <a:t>Tra-la-la-la-la-la-la-la-la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292720" y="3968640"/>
            <a:ext cx="360360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0"/>
            <a:ext cx="6624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National First Font"/>
              </a:rPr>
              <a:t>TRANSLATION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National First Font"/>
              </a:rPr>
              <a:t>I like galette,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National First Font"/>
              </a:rPr>
              <a:t>Do you know how ?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National First Font"/>
              </a:rPr>
              <a:t>When it’s well mad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National First Font"/>
              </a:rPr>
              <a:t>With butter inside.</a:t>
            </a:r>
            <a:br>
              <a:rPr sz="4000"/>
            </a:br>
            <a:r>
              <a:rPr b="0" lang="nb-NO" sz="4000" spc="-1" strike="noStrike">
                <a:solidFill>
                  <a:srgbClr val="000000"/>
                </a:solidFill>
                <a:latin typeface="National First Font"/>
              </a:rPr>
              <a:t>Tra-la-la-la-la-la-la-la-lair,</a:t>
            </a:r>
            <a:br>
              <a:rPr sz="4000"/>
            </a:br>
            <a:r>
              <a:rPr b="0" lang="nb-NO" sz="4000" spc="-1" strike="noStrike">
                <a:solidFill>
                  <a:srgbClr val="000000"/>
                </a:solidFill>
                <a:latin typeface="National First Font"/>
              </a:rPr>
              <a:t>Tra-la-la-la-la-la-la-la-l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9:07:49Z</dcterms:created>
  <dc:creator>Clare</dc:creator>
  <dc:description/>
  <dc:language>en-US</dc:language>
  <cp:lastModifiedBy>Clare</cp:lastModifiedBy>
  <dcterms:modified xsi:type="dcterms:W3CDTF">2008-05-23T14:50:34Z</dcterms:modified>
  <cp:revision>11</cp:revision>
  <dc:subject/>
  <dc:title>Slide 1</dc:title>
</cp:coreProperties>
</file>