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7612-1B1A-49ED-85EA-09EDE3E9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285-7CE2-45A8-A3EB-D6A95351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B3E-4EF3-493F-B320-019FC374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BE2-63B6-4E9D-83C6-61A66619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1509-B2CD-4A3B-808A-9CE33206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09A-8403-4617-952D-DAEBF6A4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EC1-EED7-447E-A9AB-563F7FA2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DF1-6AEA-4CFC-B754-5403361C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AEE-4AEE-484E-83DD-26708880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1A9-5FFC-4C34-BD52-69FA8B8F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D80D-BA84-428A-8E44-543A6020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E9F-9245-4D84-9BF6-527CE29C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E545-8193-49F9-B17E-395B6D6E6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6407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J'aime la galette,</a:t>
            </a:r>
            <a:br>
              <a:rPr sz="5400"/>
            </a:b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Savez-vous comment ?</a:t>
            </a:r>
            <a:br>
              <a:rPr sz="5400"/>
            </a:b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Quand elle est bien faite</a:t>
            </a:r>
            <a:br>
              <a:rPr sz="5400"/>
            </a:b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Avec du beurre dedans</a:t>
            </a:r>
            <a:br>
              <a:rPr sz="5400"/>
            </a:b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Tra-la-la-la-la-la-la-la-lère,</a:t>
            </a:r>
            <a:br>
              <a:rPr sz="5400"/>
            </a:b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Tra-la-la-la-la-la-la-la-l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292720" y="3968640"/>
            <a:ext cx="360360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662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I like galette,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Do you know how ?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When it’s well mad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With butter inside.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National First Font"/>
              </a:rPr>
              <a:t>Tra-la-la-la-la-la-la-la-lair,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National First Font"/>
              </a:rPr>
              <a:t>Tra-la-la-la-la-la-la-la-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3T14:50:34Z</dcterms:modified>
  <cp:revision>11</cp:revision>
  <dc:subject/>
  <dc:title>Slide 1</dc:title>
</cp:coreProperties>
</file>