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8632-0395-4B48-831B-40B449AC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DA88-C230-4BE4-B3E7-D0E3037A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FB05-3F52-405C-89C4-028F3572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016F-C911-4FAF-AAC4-C5FDE0EF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926-281D-4702-9584-30C70514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3187-B7D7-4112-8162-4D4D6853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1A2F-06C8-47F4-8D26-D85505EA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E3A-5677-4573-A42C-EB33C7BA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AE0-B711-4533-A7B9-67CECF18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0742-9685-4DF2-952C-D161DD5D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8F4-0349-4871-A837-E603E01B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688A-4CAB-4BAE-8464-CEF949DA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E5D0-B96B-46B1-B41E-0143E6127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8640720" cy="65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Dans la jungle, terrible jungle,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Le lion est mort ce soir,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Et les hommes tranquilles s'endorment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Le lion est mort ce soir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Ahiiiiiiiiiiiiiii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Ohim Bowé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Tout est sage dans le village,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Le lion est mort ce soir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Plus de rages, plus de carnage,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Le lion est mort ce soir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Ahhiiiiiiiiiiii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Ohim Bowé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L'indomptable, le redoutable,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Le lion est mort ce soir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Viens ma belle, viens ma gazelle,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Le lion est mort ce soir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Ohim Bowé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70840" y="3933720"/>
            <a:ext cx="1823760" cy="196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28162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0"/>
            <a:ext cx="6624720" cy="64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n the jungle, terrible jungle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The lion is dead this evening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And men can go to sleep peacefully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The lion is dead this evening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Ah-eee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Ah-wim-o-weh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Everything is calm in the village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The lion is dead this evening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No more madness, no more carnage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The lion is dead this evening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Ah-eee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Ah-wim-o-weh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The indomitable, the formidable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The lion is dead this evening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Come my pretty one, come my gazelle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The lion is dead this evening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Ah-wim-o-we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3T14:45:54Z</dcterms:modified>
  <cp:revision>9</cp:revision>
  <dc:subject/>
  <dc:title>Slide 1</dc:title>
</cp:coreProperties>
</file>