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512-757C-44D2-B795-A4B2FA1F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10B-AA59-4FA7-BB37-F036E68A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D8F-7447-44DA-8496-197FF049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6F0-C250-41C6-9B3E-AFC51017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145-4268-4EB2-BA29-A4C15F26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65CF-7ACC-42D5-87ED-F8321EA4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496-C979-46DF-AFD3-04758F05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056-E889-4C7B-B7D6-5692BB6B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1B1-4191-4B2C-90DA-77E33A5F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E32-A437-4245-84D0-BE895AB7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D5F-2456-43B2-9A6F-1DAD340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B4C-C7BB-47A7-BEC5-35C44DA5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BAD2-BDC7-47D3-A8D9-55E780792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64072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Dans la jungle, terrible jungle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Et les hommes tranquilles s'endormen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Ahiiiiiiiiiiiiiii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Ohim Bowé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Tout est sage dans le village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Plus de rages, plus de carnage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Ahhiiiiiiiiiiii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Ohim Bowé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'indomptable, le redoutable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Viens ma belle, viens ma gazelle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Le lion est mort ce soir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Ohim Bowé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70840" y="3933720"/>
            <a:ext cx="1823760" cy="196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28162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6624720" cy="64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In the jungle, terrible jungl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nd men can go to sleep peacefully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h-eee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h-wim-o-weh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Everything is calm in the villag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No more madness, no more carnag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h-eee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h-wim-o-weh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indomitable, the formidabl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Come my pretty one, come my gazell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The lion is dead this evening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National First Font"/>
              </a:rPr>
              <a:t>Ah-wim-o-w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4:45:54Z</dcterms:modified>
  <cp:revision>9</cp:revision>
  <dc:subject/>
  <dc:title>Slide 1</dc:title>
</cp:coreProperties>
</file>