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CA03-7742-42A6-8704-12D385CF3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4ADD-BDF6-4B3C-8350-09C0808C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3A1C-4EA1-4A11-92CF-25EC9F3D9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B9EF-814E-456D-A997-AFB2F2C2A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C58A-6E3E-4CBA-B2E8-B731B14F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E0CE-539A-4012-93B2-BFD8DE77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7CE0-0182-4975-8466-B50DF555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5B4A-7BB8-48A8-A0C3-06E07C1B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AA8B-D09C-49AB-B798-1B784FC7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738C-4084-48D2-9639-896B6808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B1AC-35B6-45A4-9B31-DE0F9702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D0DC-E378-4677-AF1D-A72A85ED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881A-6761-4277-8315-489A47F6F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0"/>
            <a:ext cx="374508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Dans la ferme de MacDonald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-A-I-A-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Dans la ferme il y a quatre canards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-A-I-A-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l y a un coin par ici, un coin par là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ci un coin, là un coi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Partout il y a des coins-coin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Dans la ferme de MacDonald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-A-I-A-O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Dans la ferme de MacDonald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-A-I-A-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Dans la ferme il y a une vache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-A-I-A-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l y a un meuh par ici, un meuh par là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ci un meuh, là un meuh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Partout il y a des meuh-meuh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Dans la ferme de MacDonald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-A-I-A-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16360" y="0"/>
            <a:ext cx="4427640" cy="55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Dans la ferme de MacDonald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-A-I-A-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Dans la ferme il y a trois moutons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-A-I-A-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l y a un bêêê par ici, un bêêê par là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ci un bêêê, là un bêêê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Partout il y a des bêêê-bêêê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Dans la ferme de MacDonald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-A-I-A-O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Dans la ferme de MacDonald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-A-I-A-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Dans la ferme il y a cinq cochons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-A-I-A-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l y a un gro</a:t>
            </a:r>
            <a:r>
              <a:rPr b="0" lang="en-US" sz="2000" spc="-1" strike="noStrike">
                <a:solidFill>
                  <a:srgbClr val="000000"/>
                </a:solidFill>
                <a:latin typeface="National First Font"/>
              </a:rPr>
              <a:t>ën</a:t>
            </a: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 par ici, un gro</a:t>
            </a:r>
            <a:r>
              <a:rPr b="0" lang="en-US" sz="2000" spc="-1" strike="noStrike">
                <a:solidFill>
                  <a:srgbClr val="000000"/>
                </a:solidFill>
                <a:latin typeface="National First Font"/>
              </a:rPr>
              <a:t>ën</a:t>
            </a: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 par là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ci un gro</a:t>
            </a:r>
            <a:r>
              <a:rPr b="0" lang="en-US" sz="2000" spc="-1" strike="noStrike">
                <a:solidFill>
                  <a:srgbClr val="000000"/>
                </a:solidFill>
                <a:latin typeface="National First Font"/>
              </a:rPr>
              <a:t>ën</a:t>
            </a: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, là un gro</a:t>
            </a:r>
            <a:r>
              <a:rPr b="0" lang="en-US" sz="2000" spc="-1" strike="noStrike">
                <a:solidFill>
                  <a:srgbClr val="000000"/>
                </a:solidFill>
                <a:latin typeface="National First Font"/>
              </a:rPr>
              <a:t>ën</a:t>
            </a: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Partout il y a des gro</a:t>
            </a:r>
            <a:r>
              <a:rPr b="0" lang="en-US" sz="2000" spc="-1" strike="noStrike">
                <a:solidFill>
                  <a:srgbClr val="000000"/>
                </a:solidFill>
                <a:latin typeface="National First Font"/>
              </a:rPr>
              <a:t>ën</a:t>
            </a: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-gro</a:t>
            </a:r>
            <a:r>
              <a:rPr b="0" lang="en-US" sz="2000" spc="-1" strike="noStrike">
                <a:solidFill>
                  <a:srgbClr val="000000"/>
                </a:solidFill>
                <a:latin typeface="National First Font"/>
              </a:rPr>
              <a:t>ëns</a:t>
            </a: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Dans la ferme de MacDonald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-A-I-A-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77080" y="5059440"/>
            <a:ext cx="208584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0"/>
            <a:ext cx="4392720" cy="57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ational First Font"/>
              </a:rPr>
              <a:t>On MacDonald’s farm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National First Font"/>
              </a:rPr>
              <a:t>I-A-I-A-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National First Font"/>
              </a:rPr>
              <a:t>On the farm there are 4 duck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National First Font"/>
              </a:rPr>
              <a:t>I-A-I-A-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National First Font"/>
              </a:rPr>
              <a:t>There’s a quack over here, a quack over ther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National First Font"/>
              </a:rPr>
              <a:t>Here a quack, there a quac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National First Font"/>
              </a:rPr>
              <a:t>Everywhere there are quack-quack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National First Font"/>
              </a:rPr>
              <a:t>On MacDonald’s farm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National First Font"/>
              </a:rPr>
              <a:t>I-A-I-A-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National First Font"/>
              </a:rPr>
              <a:t>On MacDonald’s farm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National First Font"/>
              </a:rPr>
              <a:t>I-A-I-A-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National First Font"/>
              </a:rPr>
              <a:t>On the farm there is a cow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National First Font"/>
              </a:rPr>
              <a:t>I-A-I-A-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National First Font"/>
              </a:rPr>
              <a:t>There’s a moo over here, a moo over ther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National First Font"/>
              </a:rPr>
              <a:t>Here a moo, there a mo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National First Font"/>
              </a:rPr>
              <a:t>Everywhere there are moo-moo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National First Font"/>
              </a:rPr>
              <a:t>On MacDonald’s farm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National First Font"/>
              </a:rPr>
              <a:t>I-A-I-A-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16360" y="0"/>
            <a:ext cx="4427640" cy="55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On MacDonald’s farm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-A-I-A-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On the farm there are 3 sheep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-A-I-A-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There’s a baa over here, a baa over there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Here a baa, there a baa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Everywhere there are baa-baa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On MacDonald’s farm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-A-I-A-O 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On MacDonald’s farm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-A-I-A-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On the farm there are 5 pigs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-A-I-A-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There’s an oink over here, an oink over there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Here an oink, there an oink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Everywhere there are oink-oink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On MacDonald’s farm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-A-I-A-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9:07:49Z</dcterms:created>
  <dc:creator>Clare</dc:creator>
  <dc:description/>
  <dc:language>en-US</dc:language>
  <cp:lastModifiedBy>Clare</cp:lastModifiedBy>
  <dcterms:modified xsi:type="dcterms:W3CDTF">2008-05-29T21:10:35Z</dcterms:modified>
  <cp:revision>50</cp:revision>
  <dc:subject/>
  <dc:title>Slide 1</dc:title>
</cp:coreProperties>
</file>