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555-1BE5-4091-992C-EA57698F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DE8-0BA7-4F37-B477-89A8B91A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EB2-D7D5-45A8-A407-561BBA08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2D0-2C4E-4C1D-85C3-83222F19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039-0024-430D-8C40-41277E5E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7BD-1901-423E-BC4C-C484C327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0A0-EBBD-41EC-8C3A-A1BBC4B6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F94-3E3A-4A8E-B62C-B0A0B6F8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587-FBF6-4511-B894-A40F2C1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295-F55B-4275-86C3-3EA52695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918-A18C-4C1B-86B8-575D2F4E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E4C-C499-40F2-963C-5C75BB5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4D8-D72E-47A0-8EB0-3244B6DC2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37450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quatre canard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coin par ici, un coin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coin, là un co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coins-coin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une vach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meuh par ici, un meuh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meuh, là un meuh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meuh-meuh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0"/>
            <a:ext cx="442764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trois mouton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bêêê par ici, un bêêê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bêêê, là un bêêê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bêêê-bêêê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il y a cinq cochon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l y a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par ici,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par là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ci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, là un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Partout il y a des 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-gro</a:t>
            </a: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ëns</a:t>
            </a: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Dans la ferme de MacDonald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5059440"/>
            <a:ext cx="2085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43927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the farm there are 4 du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There’s a quack over here, a quack over the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Here a quack, there a qua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Everywhere there are quack-qua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the farm there is a cow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There’s a moo over here, a moo over the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Here a moo, there a mo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Everywhere there are moo-moo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0"/>
            <a:ext cx="442764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the farm there are 3 sheep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re’s a baa over here, a baa over ther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Here a baa, there a ba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Everywhere there are baa-baa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the farm there are 5 pig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re’s an oink over here, an oink over ther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Here an oink, there an oin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Everywhere there are oink-oinks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On MacDonald’s farm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-A-I-A-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21:10:35Z</dcterms:modified>
  <cp:revision>50</cp:revision>
  <dc:subject/>
  <dc:title>Slide 1</dc:title>
</cp:coreProperties>
</file>