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EE6-366F-4E56-ADE6-5D56D46A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AB6-16E4-4C7F-8F07-88386461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FC9-222B-431E-887E-CF2392F4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1D1-E2F3-46D9-BEB6-FBD01FD9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90F-753A-4080-9AFE-2BBA766B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1C3-13F7-49A9-8A95-8B603ECD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93F-6885-465F-B5EF-612C4324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EA2-2616-4AD9-8974-BF43101C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839-D979-42B0-81D9-D3A33E55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1F5-0A49-4688-8C27-8C40285D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E0F-FD0F-465F-B775-FA9F5B40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12A-3348-4536-8120-90E34A87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9E0D-F3B0-484D-BC8E-1432D6BFF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5329440" cy="10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Meunier, tu dor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vite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Meunier, tu dor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fort.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vit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fort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vit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fort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vit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fort.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Meunier, tu dor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vite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Meunier, tu dor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for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88080" y="2924280"/>
            <a:ext cx="30780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77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Miller, you’re sleep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quickly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Miller, you’re sleep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powerful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quickly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powerfull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Miller, you’re sleep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quickly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Miller, you’re sleep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powerfull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20:41:25Z</dcterms:modified>
  <cp:revision>47</cp:revision>
  <dc:subject/>
  <dc:title>Slide 1</dc:title>
</cp:coreProperties>
</file>