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2EB-FCDF-42C9-B9B1-997FF1FF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04C-3D4D-4FA2-BA53-7A43B23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BF1-8926-45DF-A78A-6A119EFA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4F2-2080-49CA-9216-02876662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ABD-B7E6-49D0-BD13-1DECEBC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85A-3070-4FAA-8AD1-BB5C881F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653-FC88-4220-ACBB-D0E2F21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8D5-C384-4703-8997-7EDCD5A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536-E382-48D2-9011-150AF96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F50-13B2-48D6-B0A5-2867483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7EA-2460-4B89-9D9A-FEFAC86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EE9-63FD-408F-9545-9730760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B8D-42CB-4CF2-9BB5-D854B471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5329440" cy="10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vit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Meunier, tu dor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National First Font"/>
              </a:rPr>
              <a:t>Ton moulin, ton moulin va trop for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88080" y="2924280"/>
            <a:ext cx="30780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7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quickl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iller, you’re sleeping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Your mill, your mill is turning too powerful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0:41:25Z</dcterms:modified>
  <cp:revision>47</cp:revision>
  <dc:subject/>
  <dc:title>Slide 1</dc:title>
</cp:coreProperties>
</file>