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C250-087C-41AB-87D6-0EBBC4D45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7069-9D6D-4DBF-8350-78A0108FE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93DD-980B-41EA-98C9-2BE8E967F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153D-6FF0-46D8-B285-8A8FC4447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FCDF-F5B1-43C3-BBBE-0A58BA5AE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DF79-4E06-475A-93B6-F423C969B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DF67-7751-413D-8DB6-56E018D23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765E-D378-46EE-9F77-D083A0CDC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0594-F1DD-4BD1-8572-B824A5FEC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A8A3-BBE3-49D6-94E6-FD7A2089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100D-CE85-490A-8C22-517D03FD8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607D-94AF-4D48-86CD-46D35A14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6F5BF-8E86-4DF1-AEFB-3EDA0598C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260280"/>
            <a:ext cx="7561440" cy="77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600" spc="-1" strike="noStrike">
                <a:solidFill>
                  <a:srgbClr val="000000"/>
                </a:solidFill>
                <a:latin typeface="National First Font"/>
              </a:rPr>
              <a:t>P'tit lapin plein d'poils</a:t>
            </a:r>
            <a:br>
              <a:rPr sz="5600"/>
            </a:br>
            <a:r>
              <a:rPr b="0" lang="en-GB" sz="5600" spc="-1" strike="noStrike">
                <a:solidFill>
                  <a:srgbClr val="000000"/>
                </a:solidFill>
                <a:latin typeface="National First Font"/>
              </a:rPr>
              <a:t>P'tit lapin plein d'poils</a:t>
            </a:r>
            <a:br>
              <a:rPr sz="5600"/>
            </a:br>
            <a:r>
              <a:rPr b="0" lang="en-GB" sz="5600" spc="-1" strike="noStrike">
                <a:solidFill>
                  <a:srgbClr val="000000"/>
                </a:solidFill>
                <a:latin typeface="National First Font"/>
              </a:rPr>
              <a:t>P'tit lapin plein d'poils partout</a:t>
            </a:r>
            <a:br>
              <a:rPr sz="5600"/>
            </a:br>
            <a:r>
              <a:rPr b="0" lang="en-GB" sz="5600" spc="-1" strike="noStrike">
                <a:solidFill>
                  <a:srgbClr val="000000"/>
                </a:solidFill>
                <a:latin typeface="National First Font"/>
              </a:rPr>
              <a:t>Par devant, par derrière,</a:t>
            </a:r>
            <a:br>
              <a:rPr sz="5600"/>
            </a:br>
            <a:r>
              <a:rPr b="0" lang="en-GB" sz="5600" spc="-1" strike="noStrike">
                <a:solidFill>
                  <a:srgbClr val="000000"/>
                </a:solidFill>
                <a:latin typeface="National First Font"/>
              </a:rPr>
              <a:t>Par dessus, par dessous,</a:t>
            </a:r>
            <a:br>
              <a:rPr sz="5600"/>
            </a:br>
            <a:r>
              <a:rPr b="0" lang="en-GB" sz="5600" spc="-1" strike="noStrike">
                <a:solidFill>
                  <a:srgbClr val="000000"/>
                </a:solidFill>
                <a:latin typeface="National First Font"/>
              </a:rPr>
              <a:t>P'tit lapin plein d'poils partout</a:t>
            </a:r>
            <a:r>
              <a:rPr b="0" lang="en-GB" sz="1800" spc="-1" strike="noStrike">
                <a:solidFill>
                  <a:srgbClr val="000000"/>
                </a:solidFill>
                <a:latin typeface="AbcPhonicsOn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630864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diato.org/tablat/tab195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picture of a young rabbit"/>
          <p:cNvPicPr/>
          <p:nvPr/>
        </p:nvPicPr>
        <p:blipFill>
          <a:blip r:embed="rId1"/>
          <a:stretch/>
        </p:blipFill>
        <p:spPr>
          <a:xfrm>
            <a:off x="7236000" y="4941720"/>
            <a:ext cx="1704960" cy="17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0"/>
            <a:ext cx="87138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National First Font"/>
              </a:rPr>
              <a:t>TRANSLATION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National First Font"/>
              </a:rPr>
              <a:t>Little rabbit with lots of fu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National First Font"/>
              </a:rPr>
              <a:t>Little rabbit with lots of fu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National First Font"/>
              </a:rPr>
              <a:t>Little rabbit with lots of fur everywhe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National First Font"/>
              </a:rPr>
              <a:t>On the front, on the back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National First Font"/>
              </a:rPr>
              <a:t>On the top, on the bottom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National First Font"/>
              </a:rPr>
              <a:t>Little rabbit with lots of fur everyw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2T09:07:49Z</dcterms:created>
  <dc:creator>Clare</dc:creator>
  <dc:description/>
  <dc:language>en-US</dc:language>
  <cp:lastModifiedBy>Clare</cp:lastModifiedBy>
  <dcterms:modified xsi:type="dcterms:W3CDTF">2008-05-27T15:08:31Z</dcterms:modified>
  <cp:revision>16</cp:revision>
  <dc:subject/>
  <dc:title>Slide 1</dc:title>
</cp:coreProperties>
</file>