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2E6-532B-455C-B22B-E17A2E33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990-0F3C-40C5-99A0-A2733D96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ED3-21B3-47D0-A8E5-CCB53784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517-3D82-4EA1-BB99-38485906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70E-C813-44B7-9F73-97BCC093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D35-C604-49A8-BA6F-3AE13E8F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020-D55D-47CF-9247-3054F862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D13-663B-4B6A-8B5E-791BC995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129-7929-4AFD-984C-20D168E9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A34-78E1-4081-BCC8-159A98E3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FAD-EC92-4C46-85E5-11B74ECC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F05-85BA-4C36-8E7D-EDA3F19A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FD8E-808D-46D6-9929-6D711BC62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75614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National First Font"/>
              </a:rPr>
              <a:t>P'tit lapin plein d'poils</a:t>
            </a:r>
            <a:br>
              <a:rPr sz="5600"/>
            </a:br>
            <a:r>
              <a:rPr b="0" lang="en-GB" sz="5600" spc="-1" strike="noStrike">
                <a:solidFill>
                  <a:srgbClr val="000000"/>
                </a:solidFill>
                <a:latin typeface="National First Font"/>
              </a:rPr>
              <a:t>P'tit lapin plein d'poils</a:t>
            </a:r>
            <a:br>
              <a:rPr sz="5600"/>
            </a:br>
            <a:r>
              <a:rPr b="0" lang="en-GB" sz="5600" spc="-1" strike="noStrike">
                <a:solidFill>
                  <a:srgbClr val="000000"/>
                </a:solidFill>
                <a:latin typeface="National First Font"/>
              </a:rPr>
              <a:t>P'tit lapin plein d'poils partout</a:t>
            </a:r>
            <a:br>
              <a:rPr sz="5600"/>
            </a:br>
            <a:r>
              <a:rPr b="0" lang="en-GB" sz="5600" spc="-1" strike="noStrike">
                <a:solidFill>
                  <a:srgbClr val="000000"/>
                </a:solidFill>
                <a:latin typeface="National First Font"/>
              </a:rPr>
              <a:t>Par devant, par derrière,</a:t>
            </a:r>
            <a:br>
              <a:rPr sz="5600"/>
            </a:br>
            <a:r>
              <a:rPr b="0" lang="en-GB" sz="5600" spc="-1" strike="noStrike">
                <a:solidFill>
                  <a:srgbClr val="000000"/>
                </a:solidFill>
                <a:latin typeface="National First Font"/>
              </a:rPr>
              <a:t>Par dessus, par dessous,</a:t>
            </a:r>
            <a:br>
              <a:rPr sz="5600"/>
            </a:br>
            <a:r>
              <a:rPr b="0" lang="en-GB" sz="5600" spc="-1" strike="noStrike">
                <a:solidFill>
                  <a:srgbClr val="000000"/>
                </a:solidFill>
                <a:latin typeface="National First Font"/>
              </a:rPr>
              <a:t>P'tit lapin plein d'poils partout</a:t>
            </a:r>
            <a:r>
              <a:rPr b="0" lang="en-GB" sz="1800" spc="-1" strike="noStrike">
                <a:solidFill>
                  <a:srgbClr val="000000"/>
                </a:solidFill>
                <a:latin typeface="AbcPhonicsOn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630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iato.org/tablat/tab195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icture of a young rabbit"/>
          <p:cNvPicPr/>
          <p:nvPr/>
        </p:nvPicPr>
        <p:blipFill>
          <a:blip r:embed="rId1"/>
          <a:stretch/>
        </p:blipFill>
        <p:spPr>
          <a:xfrm>
            <a:off x="7236000" y="4941720"/>
            <a:ext cx="170496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8713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Little rabbit with lots of fu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Little rabbit with lots of fu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Little rabbit with lots of fur everywhe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On the front, on the ba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On the top, on the bottom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Little rabbit with lots of fur every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7T15:08:31Z</dcterms:modified>
  <cp:revision>16</cp:revision>
  <dc:subject/>
  <dc:title>Slide 1</dc:title>
</cp:coreProperties>
</file>