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542-0741-4904-94AC-E4410A3E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927-9FAA-4664-B2B8-AF73655F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B24-A8E7-46A2-BA7D-FD066AB3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CE6-D7C9-4554-B9D4-7D70B72A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15F-A52E-494D-99E6-0F9BB9E1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E85-CFDB-4F94-B2A9-E9CB8B9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1AB-7D40-423E-A1AB-EBE0DC2D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A94-732A-4CBC-B130-21F74CB2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1E1-CEEC-4A15-9BCD-E93748E2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24C-9939-43B7-A4A2-0A4705C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7BE-CCB1-43C0-A5E7-98C06A11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A3D-3151-4AF5-A823-B8A903E2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D1DE-6752-401E-A70A-C373511CD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National First Font"/>
              </a:rPr>
              <a:t>Il était un petit navire (x2)</a:t>
            </a:r>
            <a:br>
              <a:rPr sz="2200"/>
            </a:br>
            <a:r>
              <a:rPr b="0" lang="nb-NO" sz="2200" spc="-1" strike="noStrike">
                <a:solidFill>
                  <a:srgbClr val="000000"/>
                </a:solidFill>
                <a:latin typeface="National First Font"/>
              </a:rPr>
              <a:t>Qui n'avait ja-ja-jamais navigué (x2)</a:t>
            </a:r>
            <a:br>
              <a:rPr sz="2200"/>
            </a:br>
            <a:r>
              <a:rPr b="0" lang="nb-NO" sz="2200" spc="-1" strike="noStrike">
                <a:solidFill>
                  <a:srgbClr val="000000"/>
                </a:solidFill>
                <a:latin typeface="National First Font"/>
              </a:rPr>
              <a:t>Ohé ! </a:t>
            </a: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Il entreprit un long voyage (x2)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Sur la mer Mé-Mé-Méditérranée (x2)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</a:t>
            </a: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Ohé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Au bout de cinq à six semaines, (x2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Les vivres vin-vin-vinrent à manquer (x2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Ohé ! Ohé !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4257720" y="1916280"/>
            <a:ext cx="45194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432144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There was a little ship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Which had ne-ne-never sailed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It undertook a long journey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n the Me-Me-Mediterranean sea (x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20640"/>
            <a:ext cx="43909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After five or six weeks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The supplies ha-ha-happened to run out (x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52:27Z</dcterms:modified>
  <cp:revision>14</cp:revision>
  <dc:subject/>
  <dc:title>Slide 1</dc:title>
</cp:coreProperties>
</file>