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0F5-40FF-475B-94A2-0C99402C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41E-1C9F-4CD8-BD6A-AA9F182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7DB-390A-4A92-9464-2565AEB5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A2E-2194-4016-9995-C9367BC5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296-81B6-46F5-B855-CD15E93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BDB-42C4-495F-88DC-0DAB195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64D-AA5D-4315-9229-E9164AA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829-8D3E-4E91-8A08-8E3497A7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EF1-0708-4EB4-8D66-EE337029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676-5959-41F6-BB5B-2AB4F37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11F-A911-4CF0-AE0B-E0AE22E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A39-B6C6-4066-9DD9-3E7FF1F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0DC-7455-43AD-A9EC-B0E49678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Il était un petit navire (x2)</a:t>
            </a:r>
            <a:br>
              <a:rPr sz="2200"/>
            </a:b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Qui n'avait ja-ja-jamais navigué (x2)</a:t>
            </a:r>
            <a:br>
              <a:rPr sz="2200"/>
            </a:br>
            <a:r>
              <a:rPr b="0" lang="nb-NO" sz="2200" spc="-1" strike="noStrike">
                <a:solidFill>
                  <a:srgbClr val="000000"/>
                </a:solidFill>
                <a:latin typeface="National First Font"/>
              </a:rPr>
              <a:t>Ohé ! </a:t>
            </a: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Il entreprit un long voyage (x2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Sur la mer Mé-Mé-Méditérranée (x2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</a:t>
            </a: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Ohé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Au bout de cinq à six semaines, (x2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Les vivres vin-vin-vinrent à manquer (x2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Ohé ! Ohé !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hé ! Ohé ! Matelot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atelot navigue sur les f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4257720" y="1916280"/>
            <a:ext cx="45194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432144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ere was a little ship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Which had ne-ne-never sailed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t undertook a long journey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n the Me-Me-Mediterranean sea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20640"/>
            <a:ext cx="43909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After five or six week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e supplies ha-ha-happened to run out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Oh-ay ! Oh-ay ! Sailor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ailor, sail on the sea wa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52:27Z</dcterms:modified>
  <cp:revision>14</cp:revision>
  <dc:subject/>
  <dc:title>Slide 1</dc:title>
</cp:coreProperties>
</file>