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83D-BBE3-4A3D-9CAC-4BF8EFCA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6BE-7BF7-401B-BA96-20049CA8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C8F-42FC-4586-9676-31716AE6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923-51BD-415E-A1F4-5C5C3C02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78E-3841-4A47-AB1A-E75FBED2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250-3E9F-4D48-A849-7D32FFDC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51C-6092-49A5-970F-11736280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AFA-8A7F-4822-A91B-B783E96D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BCB-3CAC-435E-9A8E-2C9969E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9E8-801D-4A6F-A60C-87A40212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601-9695-41C3-B0D0-9689E19D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FAF-7DA9-44A7-BDC7-7998026A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0644-BC36-4878-AA5A-6700CBC7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7561440" cy="69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Il était un petit homme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Il était un petit homme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Qui avait une drôle de maison. (x2)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Sa maison est en carton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Sa maison est en carton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Les escaliers sont en papier. (x2)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Le facteur y est passé, 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Le facteur y est passé,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Il s'est cassé le bout du nez.  (x2)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n lui a raccommodé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n lui a raccommodé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Avec un joli fil doré. (x2)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on histoire est terminée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on histoire est terminée,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essieurs, Mesdames, applaudissez ! (x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16600" y="3429000"/>
            <a:ext cx="20066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71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br>
              <a:rPr sz="40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There was a little man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There was a little man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Who had a funny house. (x2)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His house is made of cardboard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His house is made of cardboard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The stairs are made of paper. (x2)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The postman passed by there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The postman passed by there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He broke the end of his nose. (x2)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They mended him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They mended him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With a pretty golden thread. (x2)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My story is finished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My story is finished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Ladies and gentlemen, applaud !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13:47:24Z</dcterms:modified>
  <cp:revision>30</cp:revision>
  <dc:subject/>
  <dc:title>Slide 1</dc:title>
</cp:coreProperties>
</file>