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D3B-B86E-4D37-A065-8D7ADC37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D18-F156-49B7-AF87-4086AEFF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453-4D56-4D7D-A12A-FF405797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594B-22E4-4C34-92E4-C2DA8401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A5E-6A94-4059-9CA6-B1A611C8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81C-DFED-4651-BDFB-91DA1627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544-C2D8-456B-8009-4855C337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CBB-9DFA-4462-96C6-14652B6F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23F-AE10-40EB-A59D-65284417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C81-FBC8-4DFF-91BB-24446871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BCD-B42D-4C03-9213-5CA4ADF4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EEDF-9A0B-434D-9BFC-3CC6BF2D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195D-0F46-4B40-A370-A737666E4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7561440" cy="69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Il était un petit homme,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Pirouette, cacahuète,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Il était un petit homme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Qui avait une drôle de maison. (x2)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Sa maison est en carton,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Pirouette, cacahuète,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Sa maison est en carton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Les escaliers sont en papier. (x2)</a:t>
            </a:r>
            <a:br>
              <a:rPr sz="2200"/>
            </a:b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Le facteur y est passé, 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Pirouette, cacahuète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Le facteur y est passé,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Il s'est cassé le bout du nez.  (x2)</a:t>
            </a:r>
            <a:br>
              <a:rPr sz="2200"/>
            </a:b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On lui a raccommodé,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Pirouette, cacahuète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On lui a raccommodé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Avec un joli fil doré. (x2)</a:t>
            </a:r>
            <a:br>
              <a:rPr sz="2200"/>
            </a:b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Mon histoire est terminée,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National First Font"/>
              </a:rPr>
              <a:t>Pirouette, cacahuète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Mon histoire est terminée,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National First Font"/>
              </a:rPr>
              <a:t>Messieurs, Mesdames, applaudissez ! (x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16600" y="3429000"/>
            <a:ext cx="200664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8964720" cy="71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br>
              <a:rPr sz="40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There was a little man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Pirouette, peanut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There was a little man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Who had a funny house. (x2)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His house is made of cardboard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Pirouette, peanut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His house is made of cardboard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The stairs are made of paper. (x2)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The postman passed by there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Pirouette, peanut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The postman passed by there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He broke the end of his nose. (x2)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They mended him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Pirouette, peanut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They mended him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With a pretty golden thread. (x2)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My story is finished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Pirouette, peanut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My story is finished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Ladies and gentlemen, applaud !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9T13:47:24Z</dcterms:modified>
  <cp:revision>30</cp:revision>
  <dc:subject/>
  <dc:title>Slide 1</dc:title>
</cp:coreProperties>
</file>