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D45-3608-430E-9169-E854AC4B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D6E-917E-4079-B675-93A0A068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2C9-4464-44BB-BDD5-61123F0D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04F-E468-4DC7-AF1A-21BC5FA2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172-3E71-48E9-8E5E-6D8276A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286-CFA2-4AAE-B1C7-816B624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B59-EAE4-4079-99FF-EB78731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AD8-0B0D-498E-9189-6D14CF23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DB0-4D68-4F57-B5A1-CC6BB39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77A-A547-47FC-9AD8-9F15994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D00-9C71-422F-BB84-8BF8582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B0F-C648-45D2-B162-E6493A97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FD3-64B9-40D8-B394-51761C12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83664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Pomme de reinette et pomme d'api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apis, tapis rouge.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Pomme de reinette et pomme d'api,</a:t>
            </a:r>
            <a:br>
              <a:rPr sz="4800"/>
            </a:br>
            <a:r>
              <a:rPr b="0" lang="nb-NO" sz="4800" spc="-1" strike="noStrike">
                <a:solidFill>
                  <a:srgbClr val="000000"/>
                </a:solidFill>
                <a:latin typeface="National First Font"/>
              </a:rPr>
              <a:t>Tapis, tapis gr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5640" y="4292640"/>
            <a:ext cx="2144880" cy="2144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89000"/>
            <a:ext cx="8713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TRANSL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Pippin apple and Lady app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ug, red ru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Pippin apple and Lady app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National First Font"/>
              </a:rPr>
              <a:t>Rug, grey ru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07:49Z</dcterms:created>
  <dc:creator>Clare</dc:creator>
  <dc:description/>
  <dc:language>en-US</dc:language>
  <cp:lastModifiedBy>Clare</cp:lastModifiedBy>
  <dcterms:modified xsi:type="dcterms:W3CDTF">2008-05-23T15:08:09Z</dcterms:modified>
  <cp:revision>6</cp:revision>
  <dc:subject/>
  <dc:title>Slide 1</dc:title>
</cp:coreProperties>
</file>