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5430-CE44-4471-96C9-DFC58F4A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0A64-E10F-45D8-8369-FD600CD4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07FA-230D-4BE9-BFA1-2D72CBF4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8B7-9F86-4638-B4D0-E9A56E02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7F5-16FE-4F0B-B32B-DBA1896F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9DF-0E33-4966-96D5-E14EC6EF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A1B-3D3D-4A3C-81DC-5FD5BBDC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AD8-4430-414B-9771-57B4A5DF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70E3-42A7-411B-8534-2FF5B3AF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637-207B-4B9A-AC95-BBEF7315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8B6C-4E47-4070-9FE7-0F29E8C9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FFA-8D7C-424A-8C5D-A5065F95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7758-C257-4CA6-B444-13CDAB9BD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836640"/>
            <a:ext cx="8281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Pomme de reinette et pomme d'api,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Tapis, tapis rouge.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Pomme de reinette et pomme d'api,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Tapis, tapis gri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95640" y="4292640"/>
            <a:ext cx="2144880" cy="2144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56360" y="4508640"/>
            <a:ext cx="24001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89000"/>
            <a:ext cx="87138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Pippin apple and Lady apple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Rug, red ru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Pippin apple and Lady apple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Rug, grey ru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3T15:08:09Z</dcterms:modified>
  <cp:revision>6</cp:revision>
  <dc:subject/>
  <dc:title>Slide 1</dc:title>
</cp:coreProperties>
</file>