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784-B0CC-48EE-A686-F2B86D9B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B66-048A-4B7B-9690-2292DED3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FAF-11DB-4A04-A69C-E0398FBA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33B-988E-4A75-90E5-F1B45348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312-8385-4202-84B1-352757F9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A82-6C74-4525-9FD5-FCD43ECF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F57-44AA-4751-AFEC-D741826C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163-FC9A-4F57-8FBD-7EF728D4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35B-6D02-4A36-B8AE-86C99C09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21E-99DF-4D81-909B-45EC69AD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D22-B139-49DF-8039-FA596B01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389-496A-423C-B10A-4CF5156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BF39-576C-43DB-8751-7E4B9D8F1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75614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National First Font"/>
              </a:rPr>
              <a:t>Une poule sur un mur,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National First Font"/>
              </a:rPr>
              <a:t>Qui picote du pain dur,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National First Font"/>
              </a:rPr>
              <a:t>Picoti, picota,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National First Font"/>
              </a:rPr>
              <a:t>Lève la queue et puis s'en v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88000" y="4890960"/>
            <a:ext cx="2264040" cy="171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3213000"/>
            <a:ext cx="15904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896472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A hen on a wall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Who is pecking at some hard bread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Picoti, picota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Lifts up her tail and then go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14:01:41Z</dcterms:modified>
  <cp:revision>35</cp:revision>
  <dc:subject/>
  <dc:title>Slide 1</dc:title>
</cp:coreProperties>
</file>