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961-4A48-48DF-A7F3-23680E00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7D0-ED85-412C-9ABD-A84EF85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570-C861-427A-BA54-66F8B667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A70-DDC3-4975-9552-AB501621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C3F-FD38-4A9E-AAED-6B23A471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F37-074A-491C-95ED-1F8B7849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A2F-DADA-42EE-8486-ABAEA8A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19F-DC78-4104-962A-EA6E07F5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95A-F301-4CBB-90BE-291C6B7A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3FC-2539-4CAD-809F-F9665BD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04F-528F-4C7B-8129-B91046AF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950-75C8-4DC2-97CE-8570BD7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D396-2F17-427C-A2B6-31C93618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Une poule sur un mur,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Qui picote du pain dur,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Picoti, picota,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Lève la queue et puis s'en v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88000" y="4890960"/>
            <a:ext cx="226404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3213000"/>
            <a:ext cx="15904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96472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A hen on a w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Who is pecking at some hard bread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Picoti, picota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Lifts up her tail and then go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4:01:41Z</dcterms:modified>
  <cp:revision>35</cp:revision>
  <dc:subject/>
  <dc:title>Slide 1</dc:title>
</cp:coreProperties>
</file>