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03B-D4ED-4A3E-A076-E4DFD361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2C8-BB92-4CE4-8C21-6714CF7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05C-8D0A-40B3-97EB-7C3074DD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447-A398-4984-B7B4-667972B7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7FA-4798-4B59-8A21-FBAF66F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84C-BFF6-4A9B-A2F6-33216771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9F7-4181-4E68-A6FA-ABB71F1A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CCD-C274-4888-943E-5B15FF0B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3EE-E055-469F-9056-9B432C0A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B64-6FFB-44B7-AF4B-844BF863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7CD-D23B-41B5-805E-19CD7F02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022-6965-499D-9FF1-D744EBDF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29BC-9142-4309-83D8-593AB1FC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5920"/>
            <a:ext cx="8893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Jamais on n'a vu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Jamais on ne verra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La famille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Courir après les rats.</a:t>
            </a:r>
            <a:br>
              <a:rPr sz="4800"/>
            </a:b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Le papa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Et la maman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Et les enfants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Iront toujours au p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5866920" y="4724280"/>
            <a:ext cx="27370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534520" cy="67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You’ve never s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You will never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e Tortoise fami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Running after ra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Daddy Torto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And Mummy Torto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And the baby Torto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Will always craw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23:53Z</dcterms:modified>
  <cp:revision>6</cp:revision>
  <dc:subject/>
  <dc:title>Slide 1</dc:title>
</cp:coreProperties>
</file>