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E1D-EE83-48F4-A45B-B201B09E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F478-48F3-4D4D-A4E2-F22AAC1B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D88-B094-4A4F-B426-62A58CC1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0AE-2284-44C4-8EE6-1F3F1113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076-C843-4CFA-911C-8BD09A68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08D-B160-49ED-82B4-082DB745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456-B334-469E-950D-9DA99FB3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020-F73E-4976-8F12-FC9082CB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659-7462-4A98-8821-1122A6D3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2FC-2210-49D5-BFCA-0284DF53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C6C-58A3-4FD6-A33A-F2DFA4E8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FD4-F488-47CF-A401-54D4D929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0BDD-8ED8-4D99-A44B-92C3C19C2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5920"/>
            <a:ext cx="889308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Jamais on n'a vu,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Jamais on ne verra,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La famille Tortue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Courir après les rats.</a:t>
            </a:r>
            <a:br>
              <a:rPr sz="4800"/>
            </a:b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Le papa Tortue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Et la maman Tortue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Et les enfants Tortue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Iront toujours au p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flipH="1">
            <a:off x="5866920" y="4724280"/>
            <a:ext cx="27370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534520" cy="67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You’ve never s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You will never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The Tortoise fami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Running after ra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Daddy Torto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And Mummy Torto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And the baby Tortoi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Will always craw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5T19:23:53Z</dcterms:modified>
  <cp:revision>6</cp:revision>
  <dc:subject/>
  <dc:title>Slide 1</dc:title>
</cp:coreProperties>
</file>