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F67-9F3C-477E-9464-174AA0BC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6A0-B2B7-4356-A9DC-841FEB61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72E-B3DB-4476-93D1-5A652103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3AA-4D7F-4A31-90C8-49943AB7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0B8-850B-4BD2-88D9-A40D1CCD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9CC-5A6A-4789-9D3A-556F98C9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734-4331-4453-8084-B4E5BD27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0B0-2EEF-4A20-997A-26BC81EA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070-9262-47EB-9EE3-329B2CAC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224-FA73-4356-9612-7B7BD0ED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503-4A93-442D-94A9-B5AB5CB7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EBB-A7F2-4FF4-856E-DF6C2DD8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4581-B41E-40B9-AE07-A33CCB9AD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138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owerPoint is designed to accompany the sound file “Touchez un crayon” which has instructions to either touch or show 8 classroom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 are several ways in which this can be used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come up to the board, individually or in a pair, listen and touch the correct item on the bo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fter you’ve used the sound file, you can use the pictures to make up your own exercise. There are 3 different sets of the pictures for further prac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int out the slides and give a copy to each pupil.  They have to listen and touch the correct picture on the sheet.  They can then give each other instructions in the same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ou could surreptitiously delete one picture to play “Qu’est-ce qui manque?” (Kim’s g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45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4005360"/>
            <a:ext cx="8713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cript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Touchez un cray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Touchez une 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Montrez-moi un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Touchez une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Montrez-moi un cah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Montrez-moi un ordin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. Touchez une cha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. Montrez-moi un sty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3585000">
            <a:off x="4639680" y="2065320"/>
            <a:ext cx="1881360" cy="21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18503400">
            <a:off x="531000" y="4589640"/>
            <a:ext cx="1801800" cy="1784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77080" y="4726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020000" y="2708280"/>
            <a:ext cx="1730160" cy="119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050920" y="2349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003640" y="189000"/>
            <a:ext cx="1171800" cy="1844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2411280" y="4581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5003640" y="4508640"/>
            <a:ext cx="1249560" cy="208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2411280" y="189000"/>
            <a:ext cx="1871640" cy="1841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179280" y="2492280"/>
            <a:ext cx="194472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3585000">
            <a:off x="6872040" y="2136600"/>
            <a:ext cx="1881000" cy="216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18503400">
            <a:off x="170640" y="197280"/>
            <a:ext cx="1801800" cy="1784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27640" y="2276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948360" y="4797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627280" y="4653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050920" y="692280"/>
            <a:ext cx="1730520" cy="1190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0" y="4508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268360" y="2349360"/>
            <a:ext cx="1171800" cy="1844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680400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250920" y="2349360"/>
            <a:ext cx="1249200" cy="208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4427640" y="4581360"/>
            <a:ext cx="1871640" cy="1841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140360" y="260280"/>
            <a:ext cx="19443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3585000">
            <a:off x="389880" y="2209680"/>
            <a:ext cx="1881360" cy="216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18503400">
            <a:off x="7155720" y="197280"/>
            <a:ext cx="1801800" cy="1784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948360" y="47242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340000" y="4724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411280" y="1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95280" y="5229360"/>
            <a:ext cx="1730520" cy="1190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6877080" y="25653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771640" y="2421000"/>
            <a:ext cx="1171800" cy="1844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4932360" y="4581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4859280" y="189000"/>
            <a:ext cx="1249560" cy="2089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4716360" y="2421000"/>
            <a:ext cx="1871640" cy="1841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250920" y="333360"/>
            <a:ext cx="194472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0:36:54Z</dcterms:created>
  <dc:creator>CSeccombe</dc:creator>
  <dc:description/>
  <dc:language>en-US</dc:language>
  <cp:lastModifiedBy>CSeccombe</cp:lastModifiedBy>
  <dcterms:modified xsi:type="dcterms:W3CDTF">2008-03-14T10:34:32Z</dcterms:modified>
  <cp:revision>14</cp:revision>
  <dc:subject/>
  <dc:title>Slide 1</dc:title>
</cp:coreProperties>
</file>