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084-2097-495B-9FDB-16877B5F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C82-47D3-499D-8D82-CCB7356E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007-A2D0-42E4-979A-0EBAFF3D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97D-07E5-4CBA-804D-937893DE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F1E-7FF7-43DA-96F8-A74F0F3B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02A-58A2-4D8A-87F9-490F3850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C6A-2E52-4276-A6DD-8E06C0A9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935-14B2-4D6F-AB91-595976E9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DF9-C5FB-4B85-A9C2-A81D7729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E86-AE36-45BF-8B34-FD7532E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31E-76D4-44A4-B182-41258573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7E7-7705-495E-80A5-8DB044B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2821-D722-4993-BA9F-683283574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138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Touchez un crayon” which has instructions to either touch or show 8 classroom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 are several ways in which this can be used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come up to the board, individually or in a pair, listen and touch the correct item on the bo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fter you’ve used the sound file, you can use the pictures to make up your own exercise. There are 3 different sets of the pictures for further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int out the slides and give a copy to each pupil.  They have to listen and touch the correct picture on the sheet.  They can then give each other instructions in the same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ou could surreptitiously delete one picture to play “Qu’est-ce qui manque?” (Kim’s g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4005360"/>
            <a:ext cx="8713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cript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Touchez un cray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Touchez une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Montrez-moi un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Touchez une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Montrez-moi un cah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Montrez-moi un ordin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. Touchez une cha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 Montrez-moi un sty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3585000">
            <a:off x="4639680" y="2065320"/>
            <a:ext cx="1881360" cy="21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18503400">
            <a:off x="531000" y="4589640"/>
            <a:ext cx="1801800" cy="1784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77080" y="4726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020000" y="2708280"/>
            <a:ext cx="1730160" cy="119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050920" y="2349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003640" y="189000"/>
            <a:ext cx="1171800" cy="1844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241128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5003640" y="4508640"/>
            <a:ext cx="1249560" cy="20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411280" y="189000"/>
            <a:ext cx="1871640" cy="184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179280" y="2492280"/>
            <a:ext cx="194472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3585000">
            <a:off x="6872040" y="2136600"/>
            <a:ext cx="1881000" cy="216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8503400">
            <a:off x="170640" y="197280"/>
            <a:ext cx="1801800" cy="178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27640" y="2276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948360" y="4797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627280" y="4653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050920" y="692280"/>
            <a:ext cx="1730520" cy="119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0" y="4508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268360" y="2349360"/>
            <a:ext cx="1171800" cy="184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50920" y="2349360"/>
            <a:ext cx="1249200" cy="208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4427640" y="4581360"/>
            <a:ext cx="1871640" cy="1841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140360" y="260280"/>
            <a:ext cx="19443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3585000">
            <a:off x="389880" y="2209680"/>
            <a:ext cx="1881360" cy="21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18503400">
            <a:off x="7155720" y="197280"/>
            <a:ext cx="1801800" cy="178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948360" y="4724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340000" y="4724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411280" y="1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95280" y="5229360"/>
            <a:ext cx="1730520" cy="119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877080" y="2565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771640" y="2421000"/>
            <a:ext cx="1171800" cy="1844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493236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4859280" y="189000"/>
            <a:ext cx="1249560" cy="2089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4716360" y="2421000"/>
            <a:ext cx="1871640" cy="184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250920" y="333360"/>
            <a:ext cx="194472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0:36:54Z</dcterms:created>
  <dc:creator>CSeccombe</dc:creator>
  <dc:description/>
  <dc:language>en-US</dc:language>
  <cp:lastModifiedBy>CSeccombe</cp:lastModifiedBy>
  <dcterms:modified xsi:type="dcterms:W3CDTF">2008-03-14T10:34:32Z</dcterms:modified>
  <cp:revision>14</cp:revision>
  <dc:subject/>
  <dc:title>Slide 1</dc:title>
</cp:coreProperties>
</file>