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EA7-BE2D-4EE2-9C60-2BC77CF2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DAE-0D34-4EFD-BFE4-EE373C1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9EF-1FED-4724-B904-A3F7BC0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25B-EA46-441A-A792-F79C6CE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6C3-6B5E-4336-91C2-AA15FB4C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0DA-7CE0-480A-B963-8AAD32EF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9DA-A1B4-4AB1-B00B-090B1861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DA5-8D19-48E7-B5AE-45366F5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F91-9473-4725-8124-712A49C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2A1-C82D-44DF-A975-3C06229A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C02-985E-44C2-8F69-332405F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DB0-80F5-4228-AA13-06DCD7B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EAF-9EBB-4A73-84BC-5E45F9B16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7.png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8.wmf"/><Relationship Id="rId21" Type="http://schemas.openxmlformats.org/officeDocument/2006/relationships/image" Target="../media/image3.png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Vrai ou faux?” which has eight statements about how many of each classroom object there 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listen to the statements and then answer “Vrai” or “Fau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se the slide for some oral work – “Il y a combien de portes 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se the slide to make up your own true/false questions. “Il y a quatre trousses”  Pupil replies “Non.  Il y a quatre portes.” or “Non.  Il n’y a pas de trouss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pils use the slide as a stimulus to describe what is in the classroom. “Dans ma salle de classe il y 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645000"/>
            <a:ext cx="871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rai ou faux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Il y a six p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Il y a deux sty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Il y a cinq cray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Il y a huit go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Il y a quatre rè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Il y a 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Il y a douze ordina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Il y a neuf fenê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24720" y="62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0364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067280" y="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796000" y="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00364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140360" y="620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932360" y="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203640" y="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380360" y="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0" y="3716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 rot="19715400">
            <a:off x="7020000" y="2349360"/>
            <a:ext cx="1800000" cy="178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250920" y="260280"/>
            <a:ext cx="94752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979640" y="5545080"/>
            <a:ext cx="1333440" cy="13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363528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>
            <a:off x="1258920" y="260280"/>
            <a:ext cx="94788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8"/>
          <a:stretch/>
        </p:blipFill>
        <p:spPr>
          <a:xfrm>
            <a:off x="250920" y="1916280"/>
            <a:ext cx="947520" cy="158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9"/>
          <a:stretch/>
        </p:blipFill>
        <p:spPr>
          <a:xfrm>
            <a:off x="1332000" y="1844640"/>
            <a:ext cx="94752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0"/>
          <a:stretch/>
        </p:blipFill>
        <p:spPr>
          <a:xfrm>
            <a:off x="5003640" y="4508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1"/>
          <a:stretch/>
        </p:blipFill>
        <p:spPr>
          <a:xfrm>
            <a:off x="586728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2"/>
          <a:stretch/>
        </p:blipFill>
        <p:spPr>
          <a:xfrm>
            <a:off x="1476360" y="4581360"/>
            <a:ext cx="1333440" cy="131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3"/>
          <a:stretch/>
        </p:blipFill>
        <p:spPr>
          <a:xfrm>
            <a:off x="2411280" y="4365720"/>
            <a:ext cx="133380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4"/>
          <a:stretch/>
        </p:blipFill>
        <p:spPr>
          <a:xfrm>
            <a:off x="3132000" y="5157720"/>
            <a:ext cx="1333800" cy="1312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5"/>
          <a:stretch/>
        </p:blipFill>
        <p:spPr>
          <a:xfrm>
            <a:off x="270036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6"/>
          <a:stretch/>
        </p:blipFill>
        <p:spPr>
          <a:xfrm>
            <a:off x="5580000" y="184464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7"/>
          <a:stretch/>
        </p:blipFill>
        <p:spPr>
          <a:xfrm>
            <a:off x="4643280" y="1773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8"/>
          <a:stretch/>
        </p:blipFill>
        <p:spPr>
          <a:xfrm>
            <a:off x="2916360" y="2565360"/>
            <a:ext cx="136656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9"/>
          <a:stretch/>
        </p:blipFill>
        <p:spPr>
          <a:xfrm>
            <a:off x="3995640" y="27082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0"/>
          <a:stretch/>
        </p:blipFill>
        <p:spPr>
          <a:xfrm>
            <a:off x="5076720" y="2781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1"/>
          <a:stretch/>
        </p:blipFill>
        <p:spPr>
          <a:xfrm>
            <a:off x="5724360" y="4508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2"/>
          <a:stretch/>
        </p:blipFill>
        <p:spPr>
          <a:xfrm>
            <a:off x="6443640" y="4437000"/>
            <a:ext cx="73188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3"/>
          <a:stretch/>
        </p:blipFill>
        <p:spPr>
          <a:xfrm>
            <a:off x="478800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4"/>
          <a:stretch/>
        </p:blipFill>
        <p:spPr>
          <a:xfrm>
            <a:off x="550872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5"/>
          <a:stretch/>
        </p:blipFill>
        <p:spPr>
          <a:xfrm>
            <a:off x="622764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6"/>
          <a:stretch/>
        </p:blipFill>
        <p:spPr>
          <a:xfrm>
            <a:off x="781200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7"/>
          <a:stretch/>
        </p:blipFill>
        <p:spPr>
          <a:xfrm>
            <a:off x="6948360" y="5705640"/>
            <a:ext cx="731880" cy="115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8"/>
          <a:stretch/>
        </p:blipFill>
        <p:spPr>
          <a:xfrm>
            <a:off x="7164360" y="4437000"/>
            <a:ext cx="73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3:07Z</dcterms:modified>
  <cp:revision>9</cp:revision>
  <dc:subject/>
  <dc:title>Slide 1</dc:title>
</cp:coreProperties>
</file>