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032-38B6-43EE-9608-0253FCE5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C51-34B7-4248-8C2D-3678561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006-B6D2-401F-8144-E8D37316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9AF-8247-445D-B051-E0F083B0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AA9-6E89-4026-9F89-2CB5A54F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D8A-484C-48B7-9EF9-0DD6ACF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E8E-2A00-4648-85BF-F8B2F05C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388-2C27-426A-B6E7-8A5C8A9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5EC-30D0-468B-8DBA-D6CDBE93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23F-6184-492D-834B-C0EB0321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F23-E513-469D-8B3A-31A6E5F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FC1-E8D4-47D7-AADC-B4F2FD2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A06-78CD-4C33-8103-7CB5D739C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png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8.wmf"/><Relationship Id="rId21" Type="http://schemas.openxmlformats.org/officeDocument/2006/relationships/image" Target="../media/image3.png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Vrai ou faux?” which has eight statements about how many of each classroom object there 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listen to the statements and then answer “Vrai” or “Fau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se the slide for some oral work – “Il y a combien de portes 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se the slide to make up your own true/false questions. “Il y a quatre trousses”  Pupil replies “Non.  Il y a quatre portes.” or “Non.  Il n’y a pas de trouss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use the slide as a stimulus to describe what is in the classroom. “Dans ma salle de classe il y a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645000"/>
            <a:ext cx="8713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rai ou faux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Il y a six po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Il y a deux sty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Il y a cinq cray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Il y a huit go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Il y a quatre rè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Il y a un cah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 Il y a douze ordina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 Il y a neuf fenê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24720" y="62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0364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067280" y="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796000" y="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003640" y="549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14036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32360" y="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203640" y="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380360" y="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0" y="371628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 rot="19715400">
            <a:off x="7020000" y="2349360"/>
            <a:ext cx="1800000" cy="178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250920" y="260280"/>
            <a:ext cx="94752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979640" y="5545080"/>
            <a:ext cx="1333440" cy="131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3635280" y="1773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7"/>
          <a:stretch/>
        </p:blipFill>
        <p:spPr>
          <a:xfrm>
            <a:off x="1258920" y="260280"/>
            <a:ext cx="94788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8"/>
          <a:stretch/>
        </p:blipFill>
        <p:spPr>
          <a:xfrm>
            <a:off x="250920" y="1916280"/>
            <a:ext cx="947520" cy="158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9"/>
          <a:stretch/>
        </p:blipFill>
        <p:spPr>
          <a:xfrm>
            <a:off x="1332000" y="1844640"/>
            <a:ext cx="94752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0"/>
          <a:stretch/>
        </p:blipFill>
        <p:spPr>
          <a:xfrm>
            <a:off x="5003640" y="4508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1"/>
          <a:stretch/>
        </p:blipFill>
        <p:spPr>
          <a:xfrm>
            <a:off x="5867280" y="549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2"/>
          <a:stretch/>
        </p:blipFill>
        <p:spPr>
          <a:xfrm>
            <a:off x="1476360" y="4581360"/>
            <a:ext cx="1333440" cy="131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3"/>
          <a:stretch/>
        </p:blipFill>
        <p:spPr>
          <a:xfrm>
            <a:off x="2411280" y="4365720"/>
            <a:ext cx="133380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4"/>
          <a:stretch/>
        </p:blipFill>
        <p:spPr>
          <a:xfrm>
            <a:off x="3132000" y="5157720"/>
            <a:ext cx="1333800" cy="1312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5"/>
          <a:stretch/>
        </p:blipFill>
        <p:spPr>
          <a:xfrm>
            <a:off x="2700360" y="1773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6"/>
          <a:stretch/>
        </p:blipFill>
        <p:spPr>
          <a:xfrm>
            <a:off x="5580000" y="184464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7"/>
          <a:stretch/>
        </p:blipFill>
        <p:spPr>
          <a:xfrm>
            <a:off x="4643280" y="1773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8"/>
          <a:stretch/>
        </p:blipFill>
        <p:spPr>
          <a:xfrm>
            <a:off x="2916360" y="256536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9"/>
          <a:stretch/>
        </p:blipFill>
        <p:spPr>
          <a:xfrm>
            <a:off x="3995640" y="27082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0"/>
          <a:stretch/>
        </p:blipFill>
        <p:spPr>
          <a:xfrm>
            <a:off x="5076720" y="2781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1"/>
          <a:stretch/>
        </p:blipFill>
        <p:spPr>
          <a:xfrm>
            <a:off x="5724360" y="4508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2"/>
          <a:stretch/>
        </p:blipFill>
        <p:spPr>
          <a:xfrm>
            <a:off x="6443640" y="4437000"/>
            <a:ext cx="731880" cy="115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3"/>
          <a:stretch/>
        </p:blipFill>
        <p:spPr>
          <a:xfrm>
            <a:off x="478800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4"/>
          <a:stretch/>
        </p:blipFill>
        <p:spPr>
          <a:xfrm>
            <a:off x="550872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5"/>
          <a:stretch/>
        </p:blipFill>
        <p:spPr>
          <a:xfrm>
            <a:off x="622764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6"/>
          <a:stretch/>
        </p:blipFill>
        <p:spPr>
          <a:xfrm>
            <a:off x="781200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7"/>
          <a:stretch/>
        </p:blipFill>
        <p:spPr>
          <a:xfrm>
            <a:off x="694836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8"/>
          <a:stretch/>
        </p:blipFill>
        <p:spPr>
          <a:xfrm>
            <a:off x="7164360" y="4437000"/>
            <a:ext cx="731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13:07Z</dcterms:modified>
  <cp:revision>9</cp:revision>
  <dc:subject/>
  <dc:title>Slide 1</dc:title>
</cp:coreProperties>
</file>