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0520-B7C8-4AB0-8A03-463464034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F528-0E86-4E01-A383-BC44947FF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y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B25-66E5-4F54-9E7B-EF08165C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4E7-75C4-433E-9846-DA77FE5D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E43-7511-41E0-8876-DE01CC99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5CA-FE7C-4839-A5EF-141DC961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F4AB-E5BB-4042-BD1D-17B4B580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11A7-EBF8-42FF-B467-00FB5A54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97DC-E432-4B87-9A27-5046E36B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7379-74E9-4781-9EF5-2D45A275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9774-127B-4556-A2FF-65C508FD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7643-5592-42F4-A5B3-9139519B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814E-48A2-44CB-BDA4-52693A5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A36-7A8A-4D25-AE74-D439D78D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6FA8-8A7C-4256-8254-E9B67BE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ADDA-853D-4F27-8CB5-C7532D2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A838-535D-4F45-9B43-F5CA369D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AEF7-1351-4856-B0C9-BC7E42DB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A0FE-A1A4-4E28-A36A-762FCE44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ECE3-9FCB-4965-98A8-92DFEF8A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A71C-3F59-4F00-8B45-4388A49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9F42-DF6B-4CC1-9826-8ACE3CB9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59CA-42BA-4266-9E12-C1BD2910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4F9A-2C78-41FD-AD99-9626E969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22E-A0EB-4004-ABD4-EC4DD644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545B-DAA2-4B34-A283-C26B24F4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A675-631B-48BB-A00C-A6F1815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EB31-CFB7-4B6A-9C2D-315D8F0E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B3D1-1485-44B2-875D-8603E43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4C93-F04D-484F-A423-50140213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5164-6F69-4F08-B977-FEC30E71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16AE-FA68-48CA-97C0-7724C755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4CF-DD95-47F9-BC7E-ECCE95E0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116-DD39-4D2E-AEE6-2E45019D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D90-6459-418D-92A8-D3891994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3A5-274D-494D-BDBE-E28E7ED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910-15C8-412D-A223-515E0619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B79-59A3-460D-9196-5A28D8C1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BC15-2FDB-4A14-BBFD-FD3758DAFE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EB54-B49C-49E3-A84A-210013A787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D62B-EF52-489F-9CDB-23C80CB8291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5"/>
          <p:cNvGrpSpPr/>
          <p:nvPr/>
        </p:nvGrpSpPr>
        <p:grpSpPr>
          <a:xfrm>
            <a:off x="-1981080" y="692280"/>
            <a:ext cx="1438200" cy="1439640"/>
            <a:chOff x="-1981080" y="692280"/>
            <a:chExt cx="1438200" cy="1439640"/>
          </a:xfrm>
        </p:grpSpPr>
        <p:pic>
          <p:nvPicPr>
            <p:cNvPr id="131" name="Picture 6" descr="BALL10"/>
            <p:cNvPicPr/>
            <p:nvPr/>
          </p:nvPicPr>
          <p:blipFill>
            <a:blip r:embed="rId1"/>
            <a:stretch/>
          </p:blipFill>
          <p:spPr>
            <a:xfrm>
              <a:off x="-1981080" y="692280"/>
              <a:ext cx="14382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7"/>
            <p:cNvSpPr/>
            <p:nvPr/>
          </p:nvSpPr>
          <p:spPr>
            <a:xfrm>
              <a:off x="-1620720" y="1052280"/>
              <a:ext cx="72036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3" name="Group 8"/>
          <p:cNvGrpSpPr/>
          <p:nvPr/>
        </p:nvGrpSpPr>
        <p:grpSpPr>
          <a:xfrm>
            <a:off x="10549080" y="765000"/>
            <a:ext cx="1438200" cy="1439640"/>
            <a:chOff x="10549080" y="765000"/>
            <a:chExt cx="1438200" cy="1439640"/>
          </a:xfrm>
        </p:grpSpPr>
        <p:pic>
          <p:nvPicPr>
            <p:cNvPr id="134" name="Picture 9" descr="BALL10"/>
            <p:cNvPicPr/>
            <p:nvPr/>
          </p:nvPicPr>
          <p:blipFill>
            <a:blip r:embed="rId2"/>
            <a:stretch/>
          </p:blipFill>
          <p:spPr>
            <a:xfrm>
              <a:off x="10549080" y="765000"/>
              <a:ext cx="14382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0"/>
            <p:cNvSpPr/>
            <p:nvPr/>
          </p:nvSpPr>
          <p:spPr>
            <a:xfrm>
              <a:off x="10909440" y="112356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6" name="Group 11"/>
          <p:cNvGrpSpPr/>
          <p:nvPr/>
        </p:nvGrpSpPr>
        <p:grpSpPr>
          <a:xfrm>
            <a:off x="9756720" y="836640"/>
            <a:ext cx="1438200" cy="1440000"/>
            <a:chOff x="9756720" y="836640"/>
            <a:chExt cx="1438200" cy="1440000"/>
          </a:xfrm>
        </p:grpSpPr>
        <p:pic>
          <p:nvPicPr>
            <p:cNvPr id="137" name="Picture 12" descr="BALL10"/>
            <p:cNvPicPr/>
            <p:nvPr/>
          </p:nvPicPr>
          <p:blipFill>
            <a:blip r:embed="rId3"/>
            <a:stretch/>
          </p:blipFill>
          <p:spPr>
            <a:xfrm>
              <a:off x="9756720" y="83664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3"/>
            <p:cNvSpPr/>
            <p:nvPr/>
          </p:nvSpPr>
          <p:spPr>
            <a:xfrm>
              <a:off x="10117080" y="119700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4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9" name="Group 14"/>
          <p:cNvGrpSpPr/>
          <p:nvPr/>
        </p:nvGrpSpPr>
        <p:grpSpPr>
          <a:xfrm>
            <a:off x="10188720" y="836640"/>
            <a:ext cx="1438200" cy="1440000"/>
            <a:chOff x="10188720" y="836640"/>
            <a:chExt cx="1438200" cy="1440000"/>
          </a:xfrm>
        </p:grpSpPr>
        <p:pic>
          <p:nvPicPr>
            <p:cNvPr id="140" name="Picture 15" descr="BALL10"/>
            <p:cNvPicPr/>
            <p:nvPr/>
          </p:nvPicPr>
          <p:blipFill>
            <a:blip r:embed="rId4"/>
            <a:stretch/>
          </p:blipFill>
          <p:spPr>
            <a:xfrm>
              <a:off x="10188720" y="83664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6"/>
            <p:cNvSpPr/>
            <p:nvPr/>
          </p:nvSpPr>
          <p:spPr>
            <a:xfrm>
              <a:off x="10549080" y="126864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-2700360" y="620640"/>
            <a:ext cx="1438200" cy="1440000"/>
            <a:chOff x="-2700360" y="620640"/>
            <a:chExt cx="1438200" cy="1440000"/>
          </a:xfrm>
        </p:grpSpPr>
        <p:pic>
          <p:nvPicPr>
            <p:cNvPr id="143" name="Picture 18" descr="BALL10"/>
            <p:cNvPicPr/>
            <p:nvPr/>
          </p:nvPicPr>
          <p:blipFill>
            <a:blip r:embed="rId5"/>
            <a:stretch/>
          </p:blipFill>
          <p:spPr>
            <a:xfrm>
              <a:off x="-2700360" y="62064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9"/>
            <p:cNvSpPr/>
            <p:nvPr/>
          </p:nvSpPr>
          <p:spPr>
            <a:xfrm>
              <a:off x="-2340000" y="105228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-2413080" y="1197000"/>
            <a:ext cx="1438200" cy="1440000"/>
            <a:chOff x="-2413080" y="1197000"/>
            <a:chExt cx="1438200" cy="1440000"/>
          </a:xfrm>
        </p:grpSpPr>
        <p:pic>
          <p:nvPicPr>
            <p:cNvPr id="146" name="Picture 21" descr="BALL10"/>
            <p:cNvPicPr/>
            <p:nvPr/>
          </p:nvPicPr>
          <p:blipFill>
            <a:blip r:embed="rId6"/>
            <a:stretch/>
          </p:blipFill>
          <p:spPr>
            <a:xfrm>
              <a:off x="-2413080" y="11970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22"/>
            <p:cNvSpPr/>
            <p:nvPr/>
          </p:nvSpPr>
          <p:spPr>
            <a:xfrm>
              <a:off x="-1981440" y="155592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C 0.01597 -0.01412 0.00764 -0.00995 0.025 -0.01389 C 0.17448 -0.01134 0.13924 -0.01505 0.21667 -0.00556 C 0.22326 -0.00255 0.24184 0.00301 0.24792 0.00833 C 0.2566 0.01597 0.25174 0.01319 0.2625 0.01667 C 0.26458 0.01852 0.26649 0.02083 0.26875 0.02222 C 0.27274 0.02454 0.28125 0.02778 0.28125 0.02778 C 0.28733 0.03588 0.29462 0.0412 0.3 0.05 C 0.3099 0.06597 0.32326 0.09051 0.3375 0.1 C 0.34236 0.10949 0.34705 0.11574 0.35417 0.12222 C 0.3691 0.15208 0.34583 0.10671 0.36458 0.13889 C 0.37708 0.16042 0.38976 0.18148 0.40208 0.20278 C 0.41545 0.22593 0.40608 0.21157 0.41458 0.23056 C 0.42049 0.24352 0.42708 0.25231 0.43333 0.26389 C 0.43767 0.27199 0.43715 0.2838 0.44167 0.29167 C 0.44375 0.29537 0.44583 0.29907 0.44792 0.30278 C 0.45122 0.31991 0.4566 0.33449 0.4625 0.35 C 0.46597 0.35949 0.4684 0.36875 0.47292 0.37778 C 0.47361 0.38125 0.47552 0.39329 0.47708 0.39722 C 0.48524 0.41875 0.47813 0.39306 0.48333 0.41389 C 0.4849 0.43912 0.48559 0.46736 0.49167 0.49167 C 0.49583 0.50856 0.50278 0.52454 0.50625 0.54167 C 0.51024 0.56088 0.5125 0.58056 0.52083 0.59722 C 0.52274 0.61296 0.52413 0.62894 0.52708 0.64444 C 0.53073 0.60972 0.5375 0.57755 0.54583 0.54444 C 0.55017 0.52731 0.56059 0.52338 0.56875 0.51111 C 0.57205 0.50602 0.57361 0.49907 0.57708 0.49444 C 0.57917 0.49167 0.58125 0.48889 0.58333 0.48611 C 0.58854 0.46528 0.58142 0.49097 0.58958 0.46944 C 0.59653 0.45069 0.59948 0.44213 0.6125 0.43056 C 0.62066 0.41435 0.63038 0.41111 0.64167 0.40278 C 0.64601 0.39954 0.65417 0.39167 0.65417 0.39167 C 0.68125 0.39259 0.71111 0.38102 0.73542 0.39722 C 0.74549 0.40394 0.75833 0.40833 0.76667 0.41944 C 0.77674 0.43287 0.78438 0.44699 0.79375 0.46111 C 0.79375 0.46111 0.80938 0.48194 0.8125 0.48611 C 0.81597 0.49074 0.81806 0.49722 0.82083 0.50278 C 0.8224 0.50602 0.82535 0.5081 0.82708 0.51111 C 0.82708 0.51111 0.8375 0.53194 0.83958 0.53611 C 0.84323 0.54352 0.84219 0.5537 0.84583 0.56111 C 0.85295 0.57546 0.85243 0.5875 0.85625 0.60278 C 0.85833 0.61111 0.86233 0.61829 0.86667 0.625 C 0.86823 0.62755 0.87118 0.62824 0.87292 0.63056 C 0.87535 0.6338 0.87674 0.63843 0.87917 0.64167 C 0.88767 0.65301 0.89826 0.66319 0.90833 0.67222 C 0.91233 0.65625 0.91528 0.63426 0.92083 0.61944 C 0.92188 0.61667 0.92674 0.60255 0.92917 0.6 C 0.9309 0.59815 0.93333 0.59815 0.93542 0.59722 C 0.94184 0.58866 0.94861 0.58171 0.95625 0.575 C 0.95885 0.56991 0.9599 0.56343 0.9625 0.55833 C 0.96406 0.55509 0.96684 0.55301 0.96875 0.55 C 0.975 0.53981 0.97049 0.54236 0.97917 0.53333 C 0.99201 0.51991 1.00278 0.51736 1.01875 0.51389 C 1.05625 0.51481 1.09375 0.51481 1.13125 0.51667 C 1.13351 0.51667 1.13542 0.51875 1.1375 0.51944 C 1.14705 0.52222 1.16024 0.52292 1.16875 0.53056 C 1.17795 0.53866 1.18455 0.55023 1.19375 0.55833 C 1.19913 0.56921 1.19792 0.57315 1.20625 0.58056 C 1.20764 0.58333 1.20885 0.58634 1.21042 0.58889 C 1.21233 0.5919 1.21493 0.59398 1.21667 0.59722 C 1.22465 0.61227 1.2158 0.60602 1.22708 0.61111 C 1.2309 0.6162 1.23576 0.61991 1.23958 0.625 C 1.24132 0.62731 1.24184 0.63125 1.24375 0.63333 C 1.24635 0.63611 1.25885 0.64213 1.2625 0.64444 C 1.275 0.65278 1.2875 0.66389 1.30208 0.66389 E">
                                      <p:cBhvr>
                                        <p:cTn id="6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18519E-006 C -0.01597 -0.00717 -0.02951 -0.0206 -0.04583 -0.02777 C -0.07222 -0.03958 -0.10173 -0.0368 -0.12916 -0.04166 C -0.16666 -0.04814 -0.20139 -0.05578 -0.23958 -0.05833 C -0.27847 -0.0574 -0.31736 -0.05717 -0.35625 -0.05555 C -0.36458 -0.05509 -0.37014 -0.04907 -0.37708 -0.04444 C -0.38923 -0.03634 -0.4026 -0.02823 -0.41458 -0.01944 C -0.42448 -0.01203 -0.43055 -0.00254 -0.43958 0.00556 C -0.45069 0.02778 -0.43611 0.00093 -0.45 0.01945 C -0.46389 0.03797 -0.44375 0.01853 -0.46041 0.03334 C -0.46632 0.04515 -0.47569 0.05371 -0.48333 0.0639 C -0.49132 0.07454 -0.4967 0.08612 -0.50625 0.09445 C -0.51597 0.1139 -0.51041 0.10741 -0.52083 0.11667 C -0.5243 0.12385 -0.52986 0.12894 -0.53333 0.13612 C -0.54218 0.15371 -0.5434 0.17454 -0.55208 0.19167 C -0.55642 0.22015 -0.56354 0.247 -0.56875 0.27501 C -0.57309 0.29792 -0.5743 0.32385 -0.57708 0.34723 C -0.5802 0.37431 -0.5802 0.40996 -0.59184 0.43334 C -0.59479 0.44954 -0.59496 0.46783 -0.6 0.48334 C -0.60277 0.4919 -0.60764 0.49978 -0.61059 0.50834 C -0.61215 0.51366 -0.61319 0.51945 -0.61458 0.52501 C -0.61545 0.52825 -0.61788 0.53033 -0.61875 0.53334 C -0.62395 0.547 -0.6283 0.56135 -0.63333 0.57501 C -0.63854 0.58913 -0.6401 0.60579 -0.65208 0.61112 C -0.65868 0.59769 -0.66215 0.58265 -0.66875 0.56945 C -0.67291 0.54746 -0.6677 0.56922 -0.67708 0.54723 C -0.68038 0.53982 -0.68177 0.5294 -0.68541 0.52223 C -0.68698 0.51899 -0.68993 0.51714 -0.69166 0.5139 C -0.69739 0.50325 -0.69757 0.49515 -0.70416 0.48334 C -0.71284 0.44862 -0.74236 0.41737 -0.7625 0.39445 C -0.76788 0.3882 -0.77795 0.37987 -0.78333 0.37501 C -0.78541 0.37315 -0.7875 0.3713 -0.78958 0.36945 C -0.79166 0.3676 -0.79583 0.3639 -0.79583 0.3639 C -0.79895 0.35765 -0.80139 0.3514 -0.80625 0.34723 C -0.80816 0.34561 -0.81059 0.34584 -0.8125 0.34445 C -0.82916 0.33218 -0.84149 0.31737 -0.86041 0.31112 C -0.87777 0.31204 -0.89514 0.31228 -0.9125 0.3139 C -0.91788 0.31436 -0.92048 0.31876 -0.925 0.32223 C -0.93281 0.32825 -0.94132 0.33288 -0.94809 0.34167 C -0.95173 0.34677 -0.95347 0.35533 -0.95625 0.36112 C -0.96302 0.3757 -0.96927 0.39005 -0.975 0.40556 C -0.97621 0.40903 -0.97586 0.4132 -0.97708 0.41667 C -0.98767 0.44839 -0.97951 0.41482 -0.9875 0.44167 C -0.99427 0.46436 -0.9875 0.45278 -0.99791 0.46667 C -0.99861 0.47038 -0.99895 0.47408 -1 0.47778 C -1.00104 0.48172 -1.00312 0.48496 -1.00416 0.4889 C -1.0052 0.49329 -1.00538 0.49815 -1.00625 0.50278 C -1.00885 0.51667 -1.00746 0.50579 -1.0125 0.51945 C -1.01823 0.5345 -1.02257 0.54885 -1.03333 0.55834 C -1.03941 0.58265 -1.0434 0.61204 -1.05416 0.63334 C -1.06059 0.60741 -1.05573 0.58288 -1.0625 0.55556 C -1.07014 0.52524 -1.08941 0.51228 -1.10833 0.49723 C -1.12586 0.48311 -1.13784 0.46945 -1.15833 0.4639 C -1.17066 0.45556 -1.18246 0.4544 -1.19583 0.44978 C -1.2151 0.45163 -1.22986 0.44885 -1.24583 0.46112 C -1.25972 0.47177 -1.24271 0.46251 -1.26458 0.47223 C -1.26666 0.47315 -1.27083 0.47501 -1.27083 0.47501 C -1.27708 0.48751 -1.28211 0.50672 -1.28958 0.51667 E">
                                      <p:cBhvr>
                                        <p:cTn id="10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4.81481E-006 C 0.08751 0.00092 0.17501 0.00023 0.26251 0.00277 C 0.2764 0.00324 0.29653 0.01226 0.31042 0.01388 C 0.31667 0.01666 0.32362 0.01736 0.32917 0.02222 C 0.33334 0.02592 0.33699 0.03125 0.34167 0.03333 C 0.3474 0.03588 0.36094 0.03935 0.36667 0.04444 C 0.3724 0.04953 0.37969 0.05046 0.38542 0.05555 C 0.38959 0.05925 0.39792 0.06666 0.39792 0.06666 C 0.40278 0.07615 0.40747 0.0824 0.41459 0.08888 C 0.4191 0.09768 0.42362 0.10925 0.42917 0.11666 C 0.43334 0.12222 0.43924 0.12546 0.44376 0.13055 C 0.45973 0.14884 0.47813 0.16203 0.49584 0.17777 C 0.49827 0.17986 0.49983 0.18379 0.50209 0.18611 C 0.50608 0.19027 0.51042 0.19351 0.51459 0.19722 C 0.52344 0.20509 0.53056 0.21689 0.53959 0.225 C 0.54567 0.23703 0.55192 0.25046 0.55626 0.26388 C 0.56077 0.27777 0.56459 0.29282 0.57084 0.30555 C 0.57917 0.32199 0.58542 0.33888 0.59376 0.35555 C 0.60018 0.36828 0.60435 0.38078 0.61251 0.39166 C 0.61528 0.40277 0.61876 0.40833 0.62501 0.41666 C 0.63022 0.4375 0.6231 0.4118 0.63126 0.43333 C 0.63612 0.44629 0.6382 0.46666 0.64376 0.47777 C 0.64515 0.48055 0.64688 0.4831 0.64792 0.48611 C 0.65157 0.4956 0.65157 0.50439 0.65626 0.51388 C 0.66094 0.53935 0.6573 0.52986 0.66459 0.54444 C 0.66667 0.55601 0.66962 0.56412 0.67292 0.575 C 0.67865 0.59398 0.68265 0.61412 0.68751 0.6331 C 0.6882 0.63611 0.69167 0.63541 0.69376 0.63611 C 0.71199 0.64305 0.69341 0.63472 0.70834 0.64166 C 0.71025 0.61157 0.71025 0.60625 0.71876 0.58333 C 0.7198 0.58078 0.71962 0.57754 0.72084 0.575 C 0.7224 0.57175 0.72483 0.56875 0.72709 0.56666 C 0.73108 0.5625 0.73959 0.55555 0.73959 0.55555 C 0.74497 0.53425 0.75365 0.53263 0.76876 0.52777 C 0.80765 0.52986 0.8514 0.528 0.88542 0.55833 C 0.8915 0.57037 0.89636 0.58402 0.90417 0.59444 C 0.90834 0.61088 0.91876 0.61967 0.92292 0.63611 C 0.92796 0.63148 0.93247 0.62638 0.93751 0.62222 C 0.94636 0.61481 0.94983 0.61689 0.95834 0.60555 C 0.96042 0.60277 0.96216 0.5993 0.96459 0.59699 C 0.98334 0.58055 0.95747 0.61064 0.97709 0.58888 C 0.99028 0.5743 0.99445 0.56921 1.01042 0.56388 C 1.02917 0.56481 1.04792 0.56458 1.06667 0.56666 C 1.08924 0.56921 1.10973 0.58287 1.13126 0.58888 C 1.14272 0.59652 1.15539 0.6 1.16667 0.60833 C 1.16667 0.60833 1.1823 0.62222 1.18542 0.625 C 1.18924 0.62824 1.2106 0.63402 1.21667 0.63611 C 1.24167 0.63518 1.26667 0.63472 1.29167 0.6331 C 1.29671 0.6331 1.30626 0.62777 1.30626 0.62777 E">
                                      <p:cBhvr>
                                        <p:cTn id="14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3.7037E-006 C -0.00538 0.00023 -0.04774 0.00046 -0.06441 0.00555 C -0.08177 0.01088 -0.09826 0.01875 -0.11649 0.02222 C -0.1342 0.03009 -0.13784 0.03079 -0.15798 0.03333 C -0.171 0.03912 -0.18212 0.0419 -0.19548 0.04444 C -0.21666 0.05393 -0.26215 0.05278 -0.26215 0.05278 C -0.27812 0.0581 -0.29774 0.05972 -0.31232 0.06944 C -0.32066 0.075 -0.33489 0.08217 -0.34149 0.08889 C -0.34409 0.09167 -0.34687 0.09491 -0.34982 0.09722 C -0.35451 0.10069 -0.36458 0.10139 -0.36857 0.10278 C -0.38281 0.10764 -0.39462 0.11898 -0.40798 0.125 C -0.42152 0.14282 -0.43732 0.15903 -0.45173 0.175 C -0.45989 0.1838 -0.46406 0.19514 -0.47257 0.20278 C -0.47413 0.20648 -0.47482 0.21065 -0.47691 0.21389 C -0.4783 0.21643 -0.48125 0.21736 -0.48298 0.21944 C -0.48958 0.22685 -0.49253 0.23518 -0.49965 0.24167 C -0.50833 0.25856 -0.51753 0.27523 -0.52673 0.29167 C -0.5309 0.30764 -0.5375 0.31944 -0.5434 0.33333 C -0.54982 0.34768 -0.55399 0.36342 -0.56007 0.37778 C -0.5618 0.38171 -0.56475 0.38495 -0.56649 0.38889 C -0.56823 0.39329 -0.56892 0.39815 -0.57066 0.40278 C -0.5717 0.40648 -0.57309 0.41042 -0.57482 0.41389 C -0.57795 0.42153 -0.58507 0.43611 -0.58507 0.43611 C -0.58802 0.45532 -0.59514 0.47384 -0.60191 0.49167 C -0.60659 0.50393 -0.60781 0.51852 -0.61215 0.53055 C -0.61632 0.5419 -0.61996 0.55301 -0.62465 0.56389 C -0.63229 0.58194 -0.63628 0.60185 -0.64982 0.61389 C -0.65486 0.6338 -0.65017 0.62731 -0.66007 0.63611 C -0.66337 0.64954 -0.66597 0.64491 -0.67482 0.65278 C -0.67604 0.65555 -0.67708 0.65903 -0.67899 0.66111 C -0.68489 0.66759 -0.68906 0.66227 -0.69357 0.65555 C -0.70121 0.64398 -0.7033 0.63264 -0.70816 0.61944 C -0.7092 0.61643 -0.71128 0.61412 -0.71215 0.61111 C -0.71458 0.60509 -0.71423 0.59768 -0.71632 0.59167 C -0.71805 0.5875 -0.72048 0.58426 -0.72257 0.58055 C -0.725 0.56597 -0.72812 0.55208 -0.73316 0.53889 C -0.7342 0.53588 -0.73611 0.53356 -0.73732 0.53055 C -0.73906 0.52523 -0.73941 0.51921 -0.74149 0.51389 C -0.74826 0.49606 -0.75625 0.47917 -0.76232 0.46111 C -0.76406 0.45579 -0.76406 0.4493 -0.76632 0.44444 C -0.76788 0.44167 -0.76927 0.43912 -0.77048 0.43611 C -0.77534 0.425 -0.77934 0.41829 -0.78507 0.40833 C -0.78837 0.40301 -0.78889 0.39375 -0.79357 0.39167 C -0.81337 0.38287 -0.83055 0.36366 -0.84982 0.35278 C -0.85225 0.35139 -0.85538 0.35139 -0.85816 0.35 C -0.8658 0.3463 -0.87118 0.33958 -0.87882 0.33611 C -0.89271 0.33704 -0.90659 0.33727 -0.92066 0.33889 C -0.93055 0.34005 -0.94166 0.34676 -0.95173 0.35 C -0.96146 0.36296 -0.95555 0.35625 -0.97066 0.36944 C -0.97621 0.37454 -0.98038 0.38241 -0.98524 0.38889 C -0.98732 0.39167 -0.99132 0.39722 -0.99132 0.39722 C -0.99687 0.41852 -0.98889 0.39097 -0.99982 0.41389 C -1.00312 0.42083 -1.00538 0.4287 -1.00816 0.43611 C -1.00937 0.43981 -1.01041 0.44375 -1.01232 0.44722 C -1.0151 0.45278 -1.02048 0.46389 -1.02048 0.46389 C -1.02604 0.49954 -1.03541 0.53148 -1.04757 0.56389 C -1.05642 0.58704 -1.0592 0.61643 -1.06232 0.64167 C -1.07777 0.63472 -1.0592 0.64491 -1.07257 0.63055 C -1.0776 0.625 -1.08368 0.6213 -1.08941 0.61667 C -1.0934 0.61319 -1.09757 0.60926 -1.10173 0.60555 C -1.10382 0.6037 -1.10816 0.6 -1.10816 0.6 C -1.11823 0.57315 -1.10468 0.60579 -1.12048 0.57778 C -1.13698 0.54861 -1.11198 0.58356 -1.1309 0.55833 C -1.13402 0.54583 -1.1401 0.53588 -1.14566 0.525 C -1.14687 0.52245 -1.146 0.51875 -1.14774 0.51667 C -1.14982 0.51366 -1.15347 0.51342 -1.1559 0.51111 C -1.16892 0.49884 -1.15486 0.50555 -1.17048 0.49722 C -1.18142 0.49143 -1.1934 0.48935 -1.20399 0.48333 C -1.21302 0.47801 -1.22118 0.47268 -1.23107 0.46944 C -1.23316 0.46759 -1.23507 0.46528 -1.23715 0.46389 C -1.24114 0.46157 -1.24965 0.45833 -1.24965 0.45833 C -1.27239 0.45995 -1.29566 0.46389 -1.3184 0.46389 E">
                                      <p:cBhvr>
                                        <p:cTn id="1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2963E-006 C 0.07309 -0.03241 0.15659 -0.0051 0.23333 0.00277 C 0.2375 0.00462 0.24166 0.00648 0.24583 0.00833 C 0.24791 0.00925 0.25208 0.01111 0.25208 0.01111 C 0.26718 0.03124 0.24774 0.0074 0.26875 0.02499 C 0.27118 0.02708 0.27274 0.03078 0.275 0.03333 C 0.27934 0.03819 0.28455 0.04097 0.28958 0.04444 C 0.29479 0.05486 0.30052 0.06249 0.30833 0.06944 C 0.31944 0.09166 0.30486 0.06481 0.31875 0.08333 C 0.32118 0.08657 0.32257 0.0912 0.325 0.09444 C 0.32673 0.09675 0.32934 0.09791 0.33125 0.09999 C 0.35173 0.12268 0.32534 0.0949 0.34166 0.11666 C 0.3434 0.11898 0.346 0.12013 0.34791 0.12222 C 0.36684 0.14328 0.34045 0.11851 0.3625 0.13611 C 0.36684 0.13958 0.375 0.14722 0.375 0.14722 C 0.37639 0.14999 0.37812 0.15254 0.37916 0.15555 C 0.38021 0.1581 0.38021 0.16134 0.38125 0.16388 C 0.38732 0.1787 0.39514 0.19444 0.40208 0.20833 C 0.40781 0.21967 0.41128 0.23449 0.41875 0.24444 C 0.42152 0.24814 0.42448 0.25161 0.42708 0.25555 C 0.43628 0.2699 0.42552 0.25879 0.4375 0.26944 C 0.44896 0.29999 0.43385 0.26249 0.44791 0.28888 C 0.45486 0.30185 0.45937 0.31759 0.46666 0.33055 C 0.47326 0.34236 0.48298 0.35717 0.48958 0.36944 C 0.50139 0.39143 0.48802 0.37083 0.49583 0.38888 C 0.49757 0.39282 0.50017 0.39606 0.50208 0.39999 C 0.50781 0.41226 0.51024 0.42337 0.51666 0.43611 C 0.52031 0.44328 0.52708 0.45833 0.52708 0.45833 C 0.53021 0.47523 0.5283 0.46574 0.53333 0.48611 C 0.53402 0.48888 0.53368 0.49259 0.53541 0.49444 C 0.54236 0.50138 0.54427 0.50138 0.54791 0.51111 C 0.55139 0.5206 0.55173 0.53171 0.55416 0.54166 C 0.55486 0.55185 0.55555 0.56203 0.55625 0.57222 C 0.55868 0.61319 0.55521 0.62361 0.56041 0.60277 C 0.56111 0.59166 0.56093 0.58032 0.5625 0.56944 C 0.56406 0.55925 0.57396 0.553 0.57916 0.54722 C 0.58784 0.53749 0.59757 0.52916 0.60625 0.51944 C 0.6085 0.51689 0.61007 0.51319 0.6125 0.51111 C 0.61441 0.50949 0.61684 0.50972 0.61875 0.50833 C 0.625 0.50416 0.63159 0.49976 0.6375 0.49444 C 0.64288 0.48379 0.64913 0.48286 0.65625 0.47499 C 0.66527 0.46504 0.67291 0.45694 0.68333 0.44999 C 0.68559 0.44861 0.68715 0.44513 0.68958 0.44444 C 0.69774 0.44236 0.70625 0.44259 0.71458 0.44166 C 0.72639 0.44259 0.73819 0.44305 0.75 0.44444 C 0.75885 0.4456 0.76771 0.45347 0.775 0.45833 C 0.78628 0.46574 0.7993 0.47129 0.80833 0.48333 C 0.81771 0.49583 0.82586 0.51018 0.83333 0.52499 C 0.8368 0.53217 0.84375 0.53518 0.84791 0.54166 C 0.85468 0.55254 0.86024 0.56203 0.87083 0.56666 C 0.88107 0.58032 0.89531 0.58865 0.90833 0.59722 C 0.91111 0.59907 0.91666 0.60277 0.91666 0.60277 C 0.93715 0.60092 0.94409 0.60439 0.95833 0.59166 C 0.96493 0.57847 0.971 0.57291 0.98125 0.56388 C 0.98333 0.56203 0.9875 0.55833 0.9875 0.55833 C 0.99253 0.53842 0.98802 0.5449 0.99791 0.53611 C 1.00156 0.52152 0.99809 0.52939 1.0125 0.51666 C 1.01458 0.51481 1.01666 0.51296 1.01875 0.51111 C 1.02083 0.50925 1.025 0.50555 1.025 0.50555 C 1.05486 0.50648 1.08472 0.50671 1.11458 0.50833 C 1.13246 0.50925 1.15104 0.51874 1.16875 0.52222 C 1.18003 0.52731 1.18923 0.53286 1.2 0.53888 C 1.20277 0.5405 1.20573 0.54236 1.20833 0.54444 C 1.21128 0.54699 1.21354 0.55092 1.21666 0.55277 C 1.21996 0.55462 1.22361 0.55462 1.22708 0.55555 C 1.23611 0.56157 1.24236 0.56898 1.25208 0.57222 C 1.26198 0.58101 1.2559 0.57661 1.27083 0.58333 C 1.27291 0.58425 1.27708 0.58611 1.27708 0.58611 C 1.29305 0.58518 1.325 0.58333 1.325 0.58333 E">
                                      <p:cBhvr>
                                        <p:cTn id="22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1.48148E-006 C -0.05642 -0.00208 -0.11093 -0.00277 -0.16666 0.00556 C -0.20347 0.01783 -0.16353 0.00533 -0.26041 0.01111 C -0.27656 0.01204 -0.29253 0.02385 -0.30833 0.02778 C -0.32395 0.03148 -0.34826 0.03496 -0.36249 0.04445 C -0.37447 0.05232 -0.38576 0.06135 -0.39791 0.06945 C -0.40051 0.0713 -0.40173 0.07547 -0.40416 0.07778 C -0.40676 0.0801 -0.40989 0.08102 -0.41249 0.08334 C -0.41492 0.08565 -0.41631 0.08936 -0.41874 0.09167 C -0.42135 0.09398 -0.42447 0.09491 -0.42708 0.09723 C -0.45208 0.12107 -0.46874 0.15278 -0.48541 0.18611 C -0.49687 0.20903 -0.50538 0.24283 -0.52291 0.25834 C -0.52881 0.27014 -0.52847 0.27662 -0.53541 0.28889 C -0.53888 0.30278 -0.54652 0.31482 -0.55208 0.32778 C -0.55711 0.33959 -0.56145 0.35417 -0.56874 0.36389 C -0.58246 0.38218 -0.5934 0.4007 -0.60416 0.42223 C -0.60572 0.42547 -0.60867 0.42732 -0.61041 0.43056 C -0.61788 0.44445 -0.61944 0.46273 -0.62499 0.47778 C -0.62621 0.48889 -0.62829 0.5 -0.62916 0.51111 C -0.63142 0.54074 -0.62951 0.5713 -0.63541 0.6 C -0.63749 0.60996 -0.64131 0.62061 -0.64374 0.63056 C -0.64513 0.66412 -0.64565 0.67986 -0.64999 0.70834 C -0.65694 0.69468 -0.65746 0.6794 -0.66041 0.66389 C -0.66423 0.64352 -0.6677 0.62338 -0.67083 0.60278 C -0.6736 0.58426 -0.67482 0.56713 -0.68124 0.55 C -0.68506 0.52431 -0.69357 0.5007 -0.69791 0.475 C -0.70103 0.45648 -0.7026 0.43519 -0.71041 0.41945 C -0.71475 0.3963 -0.70902 0.42037 -0.71874 0.39723 C -0.72169 0.39028 -0.72204 0.38195 -0.72499 0.375 C -0.72794 0.36806 -0.73211 0.36227 -0.73541 0.35556 C -0.73819 0.33727 -0.74461 0.32153 -0.75624 0.31111 C -0.75763 0.30834 -0.7585 0.30486 -0.76041 0.30278 C -0.76423 0.29838 -0.76944 0.2963 -0.77291 0.29167 C -0.77829 0.28449 -0.78419 0.27547 -0.79166 0.27223 C -0.79583 0.27037 -0.80416 0.26667 -0.80416 0.26667 C -0.82708 0.2676 -0.84999 0.2669 -0.87291 0.26945 C -0.88524 0.27084 -0.89652 0.29144 -0.90624 0.3 C -0.90902 0.30556 -0.9118 0.31111 -0.91458 0.31667 C -0.92378 0.33519 -0.91822 0.31505 -0.92499 0.33334 C -0.92933 0.34514 -0.93315 0.35764 -0.93749 0.36945 C -0.93853 0.37246 -0.94062 0.37477 -0.94166 0.37778 C -0.9434 0.38311 -0.9434 0.38959 -0.94583 0.39445 C -0.94722 0.39723 -0.94895 0.39977 -0.94999 0.40278 C -0.95364 0.41227 -0.95364 0.4213 -0.95833 0.43056 C -0.96163 0.44815 -0.95885 0.43843 -0.96874 0.45834 C -0.96996 0.46088 -0.96996 0.46389 -0.97083 0.46667 C -0.97569 0.48148 -0.9802 0.49537 -0.98749 0.50834 C -0.99478 0.53727 -0.99999 0.56783 -1.00624 0.59723 C -1.00763 0.60394 -1.01006 0.62014 -1.01249 0.625 C -1.01388 0.62778 -1.01562 0.63033 -1.01666 0.63334 C -1.02135 0.64746 -1.02378 0.66297 -1.02708 0.67778 C -1.02829 0.68334 -1.02985 0.68889 -1.03124 0.69445 C -1.03194 0.69723 -1.03333 0.70278 -1.03333 0.70278 C -1.03888 0.69167 -1.04044 0.67963 -1.04374 0.66667 C -1.04617 0.65718 -1.04965 0.64838 -1.05208 0.63889 C -1.05277 0.62593 -1.05329 0.61297 -1.05416 0.6 C -1.05468 0.59352 -1.0559 0.58704 -1.05624 0.58056 C -1.05694 0.56852 -1.05485 0.52408 -1.06249 0.50556 C -1.06492 0.49977 -1.06857 0.49491 -1.07083 0.48889 C -1.07534 0.47686 -1.07899 0.46852 -1.08749 0.46111 C -1.09374 0.44861 -1.10381 0.42986 -1.11458 0.425 C -1.1309 0.40324 -1.10989 0.4294 -1.12916 0.41111 C -1.13159 0.4088 -1.13298 0.40486 -1.13541 0.40278 C -1.13975 0.39885 -1.14548 0.39815 -1.14999 0.39445 C -1.16076 0.38588 -1.17152 0.37547 -1.18333 0.36945 C -1.18801 0.36713 -1.19305 0.36598 -1.19791 0.36389 C -1.22621 0.36482 -1.25468 0.36436 -1.28333 0.36667 C -1.28767 0.36713 -1.29149 0.37223 -1.29583 0.37223 C -1.30069 0.37223 -1.30555 0.37223 -1.31041 0.37223 E">
                                      <p:cBhvr>
                                        <p:cTn id="26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58:09Z</dcterms:created>
  <dc:creator>Clare</dc:creator>
  <dc:description/>
  <dc:language>en-US</dc:language>
  <cp:lastModifiedBy>Clare Seccombe</cp:lastModifiedBy>
  <dcterms:modified xsi:type="dcterms:W3CDTF">2019-03-01T20:39:55Z</dcterms:modified>
  <cp:revision>73</cp:revision>
  <dc:subject/>
  <dc:title>Slide 1</dc:title>
</cp:coreProperties>
</file>