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en-e.wav" ContentType="audio/x-wav"/>
  <Override PartName="/ppt/media/image1.png" ContentType="image/png"/>
  <Override PartName="/ppt/media/nine-e.wav" ContentType="audio/x-wav"/>
  <Override PartName="/ppt/media/two-e.wav" ContentType="audio/x-wav"/>
  <Override PartName="/ppt/media/eight-e.wav" ContentType="audio/x-wav"/>
  <Override PartName="/ppt/media/three-e.wav" ContentType="audio/x-wav"/>
  <Override PartName="/ppt/media/seven-e.wav" ContentType="audio/x-wav"/>
  <Override PartName="/ppt/media/six-e.wav" ContentType="audio/x-wav"/>
  <Override PartName="/ppt/media/five-e.wav" ContentType="audio/x-wav"/>
  <Override PartName="/ppt/media/four-e.wav" ContentType="audio/x-wav"/>
  <Override PartName="/ppt/media/one-e.wav" ContentType="audio/x-wav"/>
  <Override PartName="/ppt/media/good-bye-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30B-D704-44E8-85F8-B36FE3A0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150-CA9C-42EF-BCA1-024DF965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6B5-3595-4A6E-8692-36342A55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31B-95A2-4FF1-973F-3FFCEDEC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10E-5AE0-48F8-BBD6-DCA3EB3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3D2-C528-4B37-8543-3B8E9E58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650-0BEF-4E81-8E5C-C19DF7D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9B8-A010-4070-9FA1-A436CDF1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56C-0DC7-4B98-8D9D-E2BD6E82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AC3-EE45-469B-B2A0-87F6D87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783-955B-401F-A0C4-12C48F46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946-7DA1-4107-9443-74E33EEC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FF5-B4A4-4F7F-81A2-A679497C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n-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one-e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ood-bye-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ine-e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ight-e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even-e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ix-e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five-e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four-e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hree-e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wo-e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3020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Copperplate Gothic Bold"/>
              </a:rPr>
              <a:t>STOP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0000" y="134136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You 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 le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PSeccombe</cp:lastModifiedBy>
  <dcterms:modified xsi:type="dcterms:W3CDTF">2004-10-25T10:29:43Z</dcterms:modified>
  <cp:revision>15</cp:revision>
  <dc:subject/>
  <dc:title>Slide 1</dc:title>
</cp:coreProperties>
</file>