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en-e.wav" ContentType="audio/x-wav"/>
  <Override PartName="/ppt/media/image1.png" ContentType="image/png"/>
  <Override PartName="/ppt/media/nine-e.wav" ContentType="audio/x-wav"/>
  <Override PartName="/ppt/media/two-e.wav" ContentType="audio/x-wav"/>
  <Override PartName="/ppt/media/eight-e.wav" ContentType="audio/x-wav"/>
  <Override PartName="/ppt/media/three-e.wav" ContentType="audio/x-wav"/>
  <Override PartName="/ppt/media/seven-e.wav" ContentType="audio/x-wav"/>
  <Override PartName="/ppt/media/six-e.wav" ContentType="audio/x-wav"/>
  <Override PartName="/ppt/media/five-e.wav" ContentType="audio/x-wav"/>
  <Override PartName="/ppt/media/four-e.wav" ContentType="audio/x-wav"/>
  <Override PartName="/ppt/media/one-e.wav" ContentType="audio/x-wav"/>
  <Override PartName="/ppt/media/good-bye-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86D-5690-4B25-9B6A-33262CA7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E16-8E86-4CA4-82F4-1D108C7E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7A6-6698-4EB5-994F-28D7816B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93D-1F0F-4720-99B5-8D0ADCD2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BEB-3498-4CBE-8879-4EAF8932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370-F2C2-472D-8A5C-A472F509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E85-10A1-4DB4-BAE9-698C4085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CF09-E238-418B-B52A-66CB2A2A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116-B94F-4E8D-B33C-C5D28AE9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E92-1C5E-4B44-B514-B2124EBA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BE6-A7C7-431C-B914-8A19AB4F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D2A-1591-410D-ABC5-AF276723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3910-F51A-4713-A419-F0B33A0D5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n-e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one-e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ood-bye-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nine-e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ight-e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even-e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ix-e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five-e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four-e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hree-e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wo-e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0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30208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9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25360"/>
            <a:ext cx="8137440" cy="37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Copperplate Gothic Bold"/>
              </a:rPr>
              <a:t>STOP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Copperplate Gothic Bold"/>
              <a:ea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9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7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6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5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4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3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41:14Z</dcterms:created>
  <dc:creator>CSeccombe</dc:creator>
  <dc:description/>
  <dc:language>en-US</dc:language>
  <cp:lastModifiedBy>PSeccombe</cp:lastModifiedBy>
  <dcterms:modified xsi:type="dcterms:W3CDTF">2004-10-25T10:29:43Z</dcterms:modified>
  <cp:revision>15</cp:revision>
  <dc:subject/>
  <dc:title>Slide 1</dc:title>
</cp:coreProperties>
</file>