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1C3-3407-4238-B85A-6587986A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49E-F8D2-4935-82B8-F9AE0E20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A75-C349-4F86-BF7C-A29648DF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FD0-0EF4-4A81-88A6-5B94B176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EEE-5213-4016-8620-8612452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1F1-FAD9-4AFD-B337-889DBA96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A43-D1C1-41BF-9D77-3D4D3968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F65-58A4-4FD6-874A-EF8ABE7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17B-C89B-411A-81BB-6C2B001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505-4371-48CD-ABCB-296DBAC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F5C-148D-4E5F-A416-BFC1277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A73-76D2-4B30-A338-7D9E5E2C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765F-DF39-48AB-9303-420102F6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61036" b="0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61036" b="0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61036" b="0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56:17Z</dcterms:created>
  <dc:creator> James Bowdler</dc:creator>
  <dc:description/>
  <dc:language>en-US</dc:language>
  <cp:lastModifiedBy>CSeccombe</cp:lastModifiedBy>
  <dcterms:modified xsi:type="dcterms:W3CDTF">2005-08-17T13:39:39Z</dcterms:modified>
  <cp:revision>8</cp:revision>
  <dc:subject/>
  <dc:title>Slide 1</dc:title>
</cp:coreProperties>
</file>