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288-EDA8-494A-8A89-6F8652E9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58D-4FE6-4C30-A9ED-5FAC8676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34E-0675-4C1B-BCE1-11814885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634-5879-4CB6-80DB-4D697D56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4D3-8EC3-4265-AAAB-3A6409CF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D44-C691-4C6E-AF61-D68FF07E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191-A9EA-488D-9EFE-0DEC12DA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7DA-C172-4696-9E0C-8ACFF08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941-66F0-4E4C-8BD3-90ABBEBB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DAF-76BE-46E9-A7B9-D8AB1992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ABD-CCC2-4558-B508-C4B3BED6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A3E-4064-4BF4-B4CE-5D18A6F4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982C-5430-4F33-B50F-34B121D03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61036" b="0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61036" b="0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61036" b="0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56:17Z</dcterms:created>
  <dc:creator> James Bowdler</dc:creator>
  <dc:description/>
  <dc:language>en-US</dc:language>
  <cp:lastModifiedBy>CSeccombe</cp:lastModifiedBy>
  <dcterms:modified xsi:type="dcterms:W3CDTF">2005-08-17T13:39:39Z</dcterms:modified>
  <cp:revision>8</cp:revision>
  <dc:subject/>
  <dc:title>Slide 1</dc:title>
</cp:coreProperties>
</file>