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ammer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B31-4D90-48D6-BB8A-9341363E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71C-60EA-4B9F-8902-FD80062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963-D9C8-4C62-8CFD-6A023D7B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56D-84F3-45BD-838C-1B0D1F31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DD3-15B8-4653-BA57-925A5C4F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AA8-EDD5-4AEA-9136-D40785FB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34D-248F-48BA-B98A-B1F4D48E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092-D8CF-4286-8C38-91BDA4D9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276-8B14-43AD-A397-76A84490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D16-948A-4E79-9794-FE8CE53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F54-7743-4B39-81E1-2E2B8DAF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019-C8BA-423E-B5DD-2CAA909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BDE-9299-4088-81F0-5801D3EE5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  <p:sndAc>
      <p:stSnd>
        <p:snd r:embed="rId1" name="hamm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ff0000"/>
                </a:solidFill>
                <a:latin typeface="Arial Black"/>
              </a:rPr>
              <a:t>STOP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84560" y="5222880"/>
            <a:ext cx="239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5:46:04Z</dcterms:created>
  <dc:creator>Andreas Zeller</dc:creator>
  <dc:description>This is useful for session chairs at conference talks (and hopefully for the speakers, too :-)
Just turn your laptop to the speaker and start the presentation.
The original idea for these slides came from Michael Ernst, MIT.  Thanks a lot, Michael!</dc:description>
  <dc:language>en-US</dc:language>
  <cp:lastModifiedBy>CSeccombe</cp:lastModifiedBy>
  <dcterms:modified xsi:type="dcterms:W3CDTF">2005-04-05T13:53:57Z</dcterms:modified>
  <cp:revision>6</cp:revision>
  <dc:subject/>
  <dc:title>Countdown</dc:title>
</cp:coreProperties>
</file>