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ammer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EBB-7C32-4BCD-ACDA-18D7DC4C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75B-8495-425A-84C8-30EB8697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478-0ECD-481D-9BA1-9E8F02A8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2A4-4BCF-44E7-BF25-28C1C40D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91F-17EC-49B8-A2DD-507101FE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FC0-9CD8-429E-A3D8-5C6A24CC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DE5-7311-43B2-BA04-302C1742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924-B5E9-4073-A606-B0543693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37E-C3BF-4B28-97F7-DBBC71A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0CE-6B06-46B7-8940-B1A346C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A70-3FC1-478C-94E9-50538214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A97-1125-4308-9BD6-A40B2DF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E393-FA6F-4CBC-BB18-65947B9B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0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  <p:sndAc>
      <p:stSnd>
        <p:snd r:embed="rId1" name="hamm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4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ff0000"/>
                </a:solidFill>
                <a:latin typeface="Arial Black"/>
              </a:rPr>
              <a:t>-5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ff0000"/>
                </a:solidFill>
                <a:latin typeface="Arial Black"/>
              </a:rPr>
              <a:t>STOP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84560" y="5222880"/>
            <a:ext cx="23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2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5:46:04Z</dcterms:created>
  <dc:creator>Andreas Zeller</dc:creator>
  <dc:description>This is useful for session chairs at conference talks (and hopefully for the speakers, too :-)
Just turn your laptop to the speaker and start the presentation.
The original idea for these slides came from Michael Ernst, MIT.  Thanks a lot, Michael!</dc:description>
  <dc:language>en-US</dc:language>
  <cp:lastModifiedBy>CSeccombe</cp:lastModifiedBy>
  <dcterms:modified xsi:type="dcterms:W3CDTF">2005-04-05T13:53:57Z</dcterms:modified>
  <cp:revision>6</cp:revision>
  <dc:subject/>
  <dc:title>Countdown</dc:title>
</cp:coreProperties>
</file>