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75610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4188600"/>
            <a:ext cx="75610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596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7640" y="242064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4000" y="242064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418860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7640" y="418860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4000" y="418860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2420640"/>
            <a:ext cx="756108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756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7993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28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2420640"/>
            <a:ext cx="756108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4596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280" y="4188600"/>
            <a:ext cx="75610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75610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280" y="4188600"/>
            <a:ext cx="75610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28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4596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7640" y="242064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4000" y="242064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280" y="418860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7640" y="418860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4000" y="4188600"/>
            <a:ext cx="243432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756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7993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5960" y="418860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5960" y="2420640"/>
            <a:ext cx="3689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4188600"/>
            <a:ext cx="75610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2420640"/>
            <a:ext cx="756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ff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1116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0" y="6093000"/>
            <a:ext cx="10429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1042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1413000"/>
            <a:ext cx="7486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Database terminology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Plus sorting and searching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raffic lights quiz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Hold up the coloured card that matches the correct answer you see on the screen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9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10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-87480" y="115920"/>
            <a:ext cx="14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1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Question 2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3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4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5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6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7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Question 8 ?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27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1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2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swer 3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47600" y="115920"/>
            <a:ext cx="103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86680" y="174600"/>
            <a:ext cx="76824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40360" y="3024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999560" y="577800"/>
            <a:ext cx="1008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15:41Z</dcterms:created>
  <dc:creator>Tim Brown</dc:creator>
  <dc:description/>
  <dc:language>en-US</dc:language>
  <cp:lastModifiedBy>CSeccombe</cp:lastModifiedBy>
  <dcterms:modified xsi:type="dcterms:W3CDTF">2005-04-05T13:56:08Z</dcterms:modified>
  <cp:revision>38</cp:revision>
  <dc:subject/>
  <dc:title>Traffic Lights Quiz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4782952</vt:r8>
  </property>
  <property fmtid="{D5CDD505-2E9C-101B-9397-08002B2CF9AE}" pid="3" name="_AuthorEmail">
    <vt:lpwstr>tim.brown@sonic-lodge.com</vt:lpwstr>
  </property>
  <property fmtid="{D5CDD505-2E9C-101B-9397-08002B2CF9AE}" pid="4" name="_AuthorEmailDisplayName">
    <vt:lpwstr>tim brown</vt:lpwstr>
  </property>
  <property fmtid="{D5CDD505-2E9C-101B-9397-08002B2CF9AE}" pid="5" name="_EmailSubject">
    <vt:lpwstr>Scrounging stuff...well here it is</vt:lpwstr>
  </property>
  <property fmtid="{D5CDD505-2E9C-101B-9397-08002B2CF9AE}" pid="6" name="_ReviewingToolsShownOnce">
    <vt:lpwstr/>
  </property>
</Properties>
</file>