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  <p:custShowLst>
    <p:custShow name="Custom Show 1" id="0">
      <p:sldLst>
        <p:sld r:id="rId3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684-CB68-4675-BC47-78D57855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B78-026D-493F-A862-9FB9144E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DD7-4762-4DBC-91EB-22BD7D5A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CED-BB26-4570-AC08-5169DD58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48B-8FFD-4884-9BE9-CF25BC87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82C-0ADA-40E3-A72C-04A2DDBE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4D8-C477-49FF-9A87-0BB2D4A1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A3C-6F64-4FA5-AF5A-357F9BA1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EFE-5895-4395-B408-1CA27B51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5E0-2948-490A-B639-64AAC87E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A0F-8C4D-4FE8-BED3-F4301894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FDE-B915-4A46-B0BE-EA9F444E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08F3-C153-4679-BF17-93281F3FE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21120" y="304920"/>
            <a:ext cx="4056120" cy="6172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3429000" cy="289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0600" y="2133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4800600" y="2514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480060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480060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480060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8" action="ppaction://hlinksldjump"/>
          </p:cNvPr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9" action="ppaction://hlinksldjump"/>
          </p:cNvPr>
          <p:cNvSpPr/>
          <p:nvPr/>
        </p:nvSpPr>
        <p:spPr>
          <a:xfrm>
            <a:off x="480060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295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914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4800600" y="5257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4800600" y="5638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4800600" y="6095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680" y="328680"/>
            <a:ext cx="4580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ascade Uni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lementary School Distri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echnology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5240" y="5029200"/>
            <a:ext cx="2571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eacher Na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ass / Su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408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4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4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4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5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6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6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7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8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8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0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0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0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32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3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3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4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5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36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7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8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9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0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2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3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4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5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8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8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8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8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6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6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6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7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8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9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0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0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2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2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2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54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4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5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5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6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6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7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7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58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9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9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0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1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1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1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62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3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3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4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5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5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5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6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67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0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8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8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8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9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70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0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0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71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531880" cy="21398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20320" y="557280"/>
            <a:ext cx="333396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eat Job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ashreg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0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1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2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2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3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4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5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6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7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7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8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9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1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1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1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2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3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Tony Baldwin</dc:creator>
  <dc:description/>
  <dc:language>en-US</dc:language>
  <cp:lastModifiedBy>CSeccombe</cp:lastModifiedBy>
  <cp:lastPrinted>2000-05-03T23:45:17Z</cp:lastPrinted>
  <dcterms:modified xsi:type="dcterms:W3CDTF">2005-04-05T20:18:33Z</dcterms:modified>
  <cp:revision>31</cp:revision>
  <dc:subject>Blank template for teachers</dc:subject>
  <dc:title>Who wants to be a millionaire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T. Baldwin</vt:lpwstr>
  </property>
  <property fmtid="{D5CDD505-2E9C-101B-9397-08002B2CF9AE}" pid="3" name="Client">
    <vt:lpwstr>Novell 3.31</vt:lpwstr>
  </property>
  <property fmtid="{D5CDD505-2E9C-101B-9397-08002B2CF9AE}" pid="4" name="Date completed">
    <vt:filetime>2001-12-06T08:00:00Z</vt:filetime>
  </property>
  <property fmtid="{D5CDD505-2E9C-101B-9397-08002B2CF9AE}" pid="5" name="Department">
    <vt:lpwstr>Technology services</vt:lpwstr>
  </property>
  <property fmtid="{D5CDD505-2E9C-101B-9397-08002B2CF9AE}" pid="6" name="Destination">
    <vt:lpwstr>Districtwide</vt:lpwstr>
  </property>
  <property fmtid="{D5CDD505-2E9C-101B-9397-08002B2CF9AE}" pid="7" name="Disposition">
    <vt:lpwstr>Finished</vt:lpwstr>
  </property>
  <property fmtid="{D5CDD505-2E9C-101B-9397-08002B2CF9AE}" pid="8" name="Division">
    <vt:lpwstr>N/A</vt:lpwstr>
  </property>
  <property fmtid="{D5CDD505-2E9C-101B-9397-08002B2CF9AE}" pid="9" name="Document number">
    <vt:r8>12010001</vt:r8>
  </property>
  <property fmtid="{D5CDD505-2E9C-101B-9397-08002B2CF9AE}" pid="10" name="Editor">
    <vt:lpwstr>T. Baldwin</vt:lpwstr>
  </property>
  <property fmtid="{D5CDD505-2E9C-101B-9397-08002B2CF9AE}" pid="11" name="Owner">
    <vt:lpwstr>T. Baldwin</vt:lpwstr>
  </property>
  <property fmtid="{D5CDD505-2E9C-101B-9397-08002B2CF9AE}" pid="12" name="Project">
    <vt:lpwstr>Tech. Support Materals</vt:lpwstr>
  </property>
  <property fmtid="{D5CDD505-2E9C-101B-9397-08002B2CF9AE}" pid="13" name="Telephone number">
    <vt:lpwstr>530.378.7025</vt:lpwstr>
  </property>
  <property fmtid="{D5CDD505-2E9C-101B-9397-08002B2CF9AE}" pid="14" name="Typist">
    <vt:lpwstr>T. Baldwin</vt:lpwstr>
  </property>
</Properties>
</file>