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3ED-E18A-4DE8-974C-CEA46E77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8DB-568A-4518-8211-0B2A945E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786-8D49-46F4-A65F-F4A3C1D1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EEE-FD2C-4D63-9419-82BE12FE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A85-1B2F-4E92-BA86-59EBE173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EC3-44B4-43CF-AE28-7CDFAD0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DBD-5AE3-40BB-873A-51759144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4DC-E442-4764-BA1E-EE4A3BA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474-FCA3-4596-83E0-442369A0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908-4905-4440-97CE-44943F7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B63-8BBA-479D-90CE-86BAC52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CBA-4679-4ADD-8457-C824BCB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3EB-CAC1-4BB6-A327-A6D8A0039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06668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ts time to play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1240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dd one out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4020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9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85800"/>
            <a:ext cx="35053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85800"/>
            <a:ext cx="350496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3352680"/>
            <a:ext cx="350532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3526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14479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1447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11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819520"/>
            <a:ext cx="9144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819520"/>
            <a:ext cx="2971800" cy="1008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oos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981080"/>
            <a:ext cx="2667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05120"/>
            <a:ext cx="3505320" cy="5814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 Answ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1981080"/>
            <a:ext cx="26672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4648320"/>
            <a:ext cx="266724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6:14:41Z</dcterms:created>
  <dc:creator>a-fenton</dc:creator>
  <dc:description/>
  <dc:language>en-US</dc:language>
  <cp:lastModifiedBy>CSeccombe</cp:lastModifiedBy>
  <dcterms:modified xsi:type="dcterms:W3CDTF">2005-04-05T20:21:44Z</dcterms:modified>
  <cp:revision>1</cp:revision>
  <dc:subject/>
  <dc:title>PowerPoint Presentation</dc:title>
</cp:coreProperties>
</file>