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809-A207-47A6-BC75-E20BBCF4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FCE-EA7A-4C18-BC66-9D7C333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31F-FF10-473D-BAE2-9A5AF56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DA3-7817-4C30-A77E-E75E63DF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B8D-0D4E-461B-83AD-78A408B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3F-8377-4E32-8C89-E6B5939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5F8-6B40-4FA5-9A52-1B694B1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168-E259-4A9F-81B4-B8949382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7FE-F056-4195-AF3E-3D3C54D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FD2-6B1A-44BB-90C9-1E3A400F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852-F22E-42EE-AD28-8D2E899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9AF-D7EC-4D9A-9D0D-2C804A72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848C-9DC3-4958-ABC6-BF0A7866C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06668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ts time to play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1240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dd one out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6:14:41Z</dcterms:created>
  <dc:creator>a-fenton</dc:creator>
  <dc:description/>
  <dc:language>en-US</dc:language>
  <cp:lastModifiedBy>CSeccombe</cp:lastModifiedBy>
  <dcterms:modified xsi:type="dcterms:W3CDTF">2005-04-05T20:21:44Z</dcterms:modified>
  <cp:revision>1</cp:revision>
  <dc:subject/>
  <dc:title>PowerPoint Presentation</dc:title>
</cp:coreProperties>
</file>