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2FB-77FA-4AC6-B349-2DC366CF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06D-E522-4A01-BD58-87739B0A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304-7A82-407C-B679-FCF18CEE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7D-C9C6-4B03-8850-C8C451CB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CA4-46EC-4B84-AD76-0C50073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0A9-4EB4-4E1E-BFA3-D868BB9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9AC-4718-4F88-AA82-17D63CF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764-35D5-4268-873C-E4F4AD3C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319-6A3A-47B3-B3AC-4C8C4F5A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47A-537C-46EF-866C-94CA8AA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DC1-42D2-4534-A704-C4D7465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487-E693-4815-A789-117DEFD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8D1-628A-45A8-BE0F-C6695653F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87052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n you name this ev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2:58:09Z</dcterms:created>
  <dc:creator>rcs</dc:creator>
  <dc:description/>
  <dc:language>en-US</dc:language>
  <cp:lastModifiedBy>CSeccombe</cp:lastModifiedBy>
  <dcterms:modified xsi:type="dcterms:W3CDTF">2005-04-05T20:24:44Z</dcterms:modified>
  <cp:revision>1</cp:revision>
  <dc:subject/>
  <dc:title>No Slide Title</dc:title>
</cp:coreProperties>
</file>