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1FF-F22A-4558-8BD4-42B7C8A1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7BC-37BA-445F-874F-3439FEEB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CE4-DBBF-4233-A29F-266EF596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AB2-889D-45C0-9EFC-D1012143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25B-1399-4014-91D2-2AD3A6F7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186-84FD-413C-8FBD-8DFC56FA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311-29BE-4D84-B439-416C9694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074-1C06-416F-A820-51EEBB4F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9E6-17FE-4DEC-BA34-D9E791C0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93F1-7327-4C98-8B24-F898CF95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0DA-3F93-4789-8802-5BFB98F9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E69-0C71-4ABC-A93C-55AB9BEF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4736-D1E3-4650-B1FC-90B739A84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0"/>
            <a:ext cx="1828800" cy="22860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990033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240"/>
            <a:ext cx="1828800" cy="22860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990033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15200" y="3240"/>
            <a:ext cx="1828800" cy="22860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990033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3240"/>
            <a:ext cx="1828800" cy="22860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990033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3240"/>
            <a:ext cx="1828800" cy="22860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990033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9240"/>
            <a:ext cx="18288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89240"/>
            <a:ext cx="18288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2289240"/>
            <a:ext cx="18288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2289240"/>
            <a:ext cx="18288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289240"/>
            <a:ext cx="18288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575240"/>
            <a:ext cx="1828800" cy="2286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0000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575240"/>
            <a:ext cx="1828800" cy="2286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0000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4575240"/>
            <a:ext cx="1828800" cy="2286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0000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4575240"/>
            <a:ext cx="1828800" cy="2286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0000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4575240"/>
            <a:ext cx="1828800" cy="2286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0000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870520"/>
            <a:ext cx="807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n you name this ev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2:58:09Z</dcterms:created>
  <dc:creator>rcs</dc:creator>
  <dc:description/>
  <dc:language>en-US</dc:language>
  <cp:lastModifiedBy>CSeccombe</cp:lastModifiedBy>
  <dcterms:modified xsi:type="dcterms:W3CDTF">2005-04-05T20:24:44Z</dcterms:modified>
  <cp:revision>1</cp:revision>
  <dc:subject/>
  <dc:title>No Slide Title</dc:title>
</cp:coreProperties>
</file>