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D78-9560-4ED4-AC90-A2FBE263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6EF-72F8-4597-B680-63DFB011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82D-7EC0-41C6-AACF-6A90A7F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26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2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26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0EE-98E2-4F84-B026-B8DA9D7F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EBBD-65AA-403E-8C31-D91C1A6D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2E82-658B-448D-A12D-457167A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0F21-B551-4933-BB1B-4B5E428B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921-3786-4CFD-9553-FDD565B9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B18E-E5C8-45BB-9933-63CF0F5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CE4C-CE6E-4BA5-876B-9686580F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5E3-A58B-43E2-B521-1204586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A48-231D-429E-9D53-7A29450E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28BE-EB14-427C-8856-991BD78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CC8-1B58-4EE4-853B-576E488D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F36-FF28-4AF1-A38C-154B5025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C8A-FFEE-4555-9F6B-7F5B4163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616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26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2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616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26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A198-9A49-4169-9DF9-399F3564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B45-7000-407E-A412-9D9F80D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4C1-911D-496E-A91A-14CF0C5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092-0DC0-471F-B637-8762097B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AED-94D7-4DBC-ADDD-3CCC561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B7E-86E4-45EC-9F78-138D780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3BF-C082-4E9B-919A-F22ED01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516-AA9C-4C56-B4FB-C3B111F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333360"/>
            <a:ext cx="8686800" cy="594360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7040" y="411120"/>
            <a:ext cx="8529840" cy="57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92EE-FC4C-403A-BB27-8B38F06DDBC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398080" cy="55627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520" y="533520"/>
            <a:ext cx="822960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8316-C081-4B9E-B3E0-4C43A4E4574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radley Hand ITC"/>
              </a:rPr>
              <a:t>On average, people who use languages in their jobs earn 8% more.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2952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There are roughly 6,500 spoken languages in the world toda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1439640" cy="111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1656000" cy="110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268360" y="4221000"/>
            <a:ext cx="158292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75% of the world’s population does not speak English at al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88944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84360" y="1809720"/>
            <a:ext cx="4032360" cy="2833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97360"/>
            <a:ext cx="8153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More than 13 million British tourists visit Spain every ye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About 30% of foreign visitors in Spain come from Britai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A customer on the Internet is 3 times more likely to buy when addressed in his own languag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327348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More than 95% of us who call ourselves English are in fact descended from foreign peop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From ‘royal’ to ‘roast beef’, many of the words most associated with English traditions come from the French languag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289872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Why learn French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440080" cy="244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9640" y="378936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Europe is the world’s largest market; France is Europe’s second largest marke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4:09:54Z</dcterms:created>
  <dc:creator>Teacher</dc:creator>
  <dc:description/>
  <dc:language>en-US</dc:language>
  <cp:lastModifiedBy>P.Seccombe</cp:lastModifiedBy>
  <dcterms:modified xsi:type="dcterms:W3CDTF">2007-02-07T13:56:37Z</dcterms:modified>
  <cp:revision>20</cp:revision>
  <dc:subject/>
  <dc:title>On average, people who use languages in their jobs earn 8% more.</dc:title>
</cp:coreProperties>
</file>