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490-C6BD-4DEC-8352-8F2C54C9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409-19C7-401D-A5C9-C2765A44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B07-34A6-4A81-90CE-FB701A98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26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2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26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D0E-8ADB-4466-954B-BA6A5A52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6C0-368C-4B51-A3F5-98EFEFF1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87C-8293-477F-9546-8EF8109E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E9C8-B453-4D72-B03A-7070AEC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ABEC-08A9-4E61-9123-CE1D0FFE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F2ED-B776-46FE-9D7C-81E1A00E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5779-8765-4074-88C4-ECEB40E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21A-6189-4C5D-92AF-0F00CDD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11-5790-42BF-8488-33409960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64F8-FF11-4622-A4C1-0F6EE10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4671-0352-4ECC-A9E0-AEC5C91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70E-7B0B-43BB-9E80-A5B66B2E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9C68-F5AA-4113-BAF1-C2221DBF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616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2680" y="22050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2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616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2680" y="43142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F365-67E8-4105-8AA0-5DC868D1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5C0-6A52-4946-A087-BDBD7DE3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164-4873-4AB2-8C21-216575E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908-FADB-4E4A-8FE8-182EBF07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288-A2D8-4AA2-8B28-8C17CCC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318-B92E-4363-8ABF-E2499F4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3142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F3F-B347-4A42-8D63-4A44BE1B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22050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280" y="43142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2E2-B964-4A9D-97FA-15AECF2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333360"/>
            <a:ext cx="8686800" cy="594360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7040" y="411120"/>
            <a:ext cx="8529840" cy="57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2205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C92C-C509-448A-9015-C615BFDF332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398080" cy="55627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533520"/>
            <a:ext cx="822960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6542-F4C1-4A85-9DFC-EEDD34E06AC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radley Hand ITC"/>
              </a:rPr>
              <a:t>On average, people who use languages in their jobs earn 8% more.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2952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There are roughly 6,500 spoken languages in the world toda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1439640" cy="111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268360" y="4221000"/>
            <a:ext cx="158292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75% of the world’s population does not speak English at al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88944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84360" y="1809720"/>
            <a:ext cx="4032360" cy="2833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97360"/>
            <a:ext cx="8153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More than 13 million British tourists visit Spain every yea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About 30% of foreign visitors in Spain come from Brit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A customer on the Internet is 3 times more likely to buy when addressed in his own languag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3213000"/>
            <a:ext cx="327348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More than 95% of us who call ourselves English are in fact descended from foreign peopl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From ‘royal’ to ‘roast beef’, many of the words most associated with English traditions come from the French languag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289872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Why learn French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440080" cy="244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37893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adley Hand ITC"/>
              </a:rPr>
              <a:t>Europe is the world’s largest market; France is Europe’s second largest marke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09:54Z</dcterms:created>
  <dc:creator>Teacher</dc:creator>
  <dc:description/>
  <dc:language>en-US</dc:language>
  <cp:lastModifiedBy>P.Seccombe</cp:lastModifiedBy>
  <dcterms:modified xsi:type="dcterms:W3CDTF">2007-02-07T13:56:37Z</dcterms:modified>
  <cp:revision>20</cp:revision>
  <dc:subject/>
  <dc:title>On average, people who use languages in their jobs earn 8% more.</dc:title>
</cp:coreProperties>
</file>