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729-8A2C-4635-9A58-6A8E85F9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9F6-37E5-4C6E-8A2B-3B9ACED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E5B-EBE0-42A6-BACA-145B8F4A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159-F271-4F61-B743-9077E087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C46-E9E8-49DA-A0E5-3FCDA08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BBC-945D-4DB5-8423-DB14B46D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500-453F-4C99-B9BC-66E81D0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FA2-1A52-46D3-B27F-5EDCC3A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D29-0753-427A-8641-40735AE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C46-CEDD-4C96-B65A-F3E4C5E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0E8-F631-4EC2-9922-6C1822A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B4-4976-45B6-BA5F-46CBE47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DF82-6BC6-4028-ADF1-6CD3CF2D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314" t="58231" r="15547" b="22854"/>
          <a:stretch/>
        </p:blipFill>
        <p:spPr>
          <a:xfrm>
            <a:off x="250920" y="404640"/>
            <a:ext cx="8569080" cy="1279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56107" t="59167" r="18503" b="21938"/>
          <a:stretch/>
        </p:blipFill>
        <p:spPr>
          <a:xfrm>
            <a:off x="2916360" y="2276640"/>
            <a:ext cx="309564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1225" t="52563" r="30885" b="29879"/>
          <a:stretch/>
        </p:blipFill>
        <p:spPr>
          <a:xfrm>
            <a:off x="971640" y="3860640"/>
            <a:ext cx="7057800" cy="13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23034" t="51627" r="5509" b="25707"/>
          <a:stretch/>
        </p:blipFill>
        <p:spPr>
          <a:xfrm>
            <a:off x="755640" y="5229360"/>
            <a:ext cx="755964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832360" cy="40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63440"/>
            <a:ext cx="820872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2472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425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9:39:10Z</dcterms:created>
  <dc:creator>Clare</dc:creator>
  <dc:description/>
  <dc:language>en-US</dc:language>
  <cp:lastModifiedBy>Clare</cp:lastModifiedBy>
  <dcterms:modified xsi:type="dcterms:W3CDTF">2009-04-21T19:51:19Z</dcterms:modified>
  <cp:revision>3</cp:revision>
  <dc:subject/>
  <dc:title>Slide 1</dc:title>
</cp:coreProperties>
</file>