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DA7-BBAF-4C93-B815-FB163A4E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D56-A31D-4A7D-8EED-5177B3D7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C3E-0B94-4287-A446-C1DD3AB9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E17-B88F-414A-A39E-3A9DA6AA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82D-CB1B-49B8-BDB3-CEF7D8D6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8AD-D1CF-4114-BFF9-B156381E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F16-3895-46A0-8BE5-FB0F59F1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27A-A810-40FF-9FE3-6B3A2168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EB9-2BB9-44CA-87D9-72D63766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0F6-F3FF-457B-8D41-F493B5ED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6CC-A347-4236-BCFC-34AC5933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E05-5E74-4AFD-95E4-FCD26B04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69F8-7629-4982-BBAB-113949D51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314" t="58231" r="15547" b="22854"/>
          <a:stretch/>
        </p:blipFill>
        <p:spPr>
          <a:xfrm>
            <a:off x="250920" y="404640"/>
            <a:ext cx="8569080" cy="1279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56107" t="59167" r="18503" b="21938"/>
          <a:stretch/>
        </p:blipFill>
        <p:spPr>
          <a:xfrm>
            <a:off x="2916360" y="2276640"/>
            <a:ext cx="3095640" cy="143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1225" t="52563" r="30885" b="29879"/>
          <a:stretch/>
        </p:blipFill>
        <p:spPr>
          <a:xfrm>
            <a:off x="971640" y="3860640"/>
            <a:ext cx="7057800" cy="1338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23034" t="51627" r="5509" b="25707"/>
          <a:stretch/>
        </p:blipFill>
        <p:spPr>
          <a:xfrm>
            <a:off x="755640" y="5229360"/>
            <a:ext cx="755964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193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5832360" cy="40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63440"/>
            <a:ext cx="820872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040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2472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6425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71380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9:39:10Z</dcterms:created>
  <dc:creator>Clare</dc:creator>
  <dc:description/>
  <dc:language>en-US</dc:language>
  <cp:lastModifiedBy>Clare</cp:lastModifiedBy>
  <dcterms:modified xsi:type="dcterms:W3CDTF">2009-04-21T19:51:19Z</dcterms:modified>
  <cp:revision>3</cp:revision>
  <dc:subject/>
  <dc:title>Slide 1</dc:title>
</cp:coreProperties>
</file>