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2B38-FD5D-4EE0-8E00-0E257497A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182B-5596-4682-98B5-851FCCCE1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E3B1-E821-43A0-91DE-DC3F30842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349C-5A29-431B-9F1A-94482FAE5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C305-974C-4A91-8712-8DC4A2E46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A5C0-BACB-4981-8F57-3171AFC7E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E89B-C1B3-4C55-8438-FCAD870EA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D4D5-3C6D-4E33-A72A-7500C4657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2F75-191A-4669-A131-ABF3635A0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41F2-ED40-41DF-A7E8-67F8BFEA3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F8A6-BA2A-4D38-95CC-8DDB53E5F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549E-72A7-4001-B780-09F22F48A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7EFF7-1EE3-4569-8CE5-512586BE643F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6A90D-EEDF-40A3-A54B-26306F4D0F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6.xml"/><Relationship Id="rId3" Type="http://schemas.openxmlformats.org/officeDocument/2006/relationships/slide" Target=""/><Relationship Id="rId4" Type="http://schemas.openxmlformats.org/officeDocument/2006/relationships/slide" Target="slide2.xml"/><Relationship Id="rId5" Type="http://schemas.openxmlformats.org/officeDocument/2006/relationships/slide" Target=""/><Relationship Id="rId6" Type="http://schemas.openxmlformats.org/officeDocument/2006/relationships/slide" Target="slide8.xml"/><Relationship Id="rId7" Type="http://schemas.openxmlformats.org/officeDocument/2006/relationships/slide" Target=""/><Relationship Id="rId8" Type="http://schemas.openxmlformats.org/officeDocument/2006/relationships/slide" Target="slide10.xml"/><Relationship Id="rId9" Type="http://schemas.openxmlformats.org/officeDocument/2006/relationships/slide" Target=""/><Relationship Id="rId10" Type="http://schemas.openxmlformats.org/officeDocument/2006/relationships/slide" Target="slide12.xml"/><Relationship Id="rId11" Type="http://schemas.openxmlformats.org/officeDocument/2006/relationships/slide" Target=""/><Relationship Id="rId12" Type="http://schemas.openxmlformats.org/officeDocument/2006/relationships/slide" Target="slide14.xml"/><Relationship Id="rId13" Type="http://schemas.openxmlformats.org/officeDocument/2006/relationships/slide" Target=""/><Relationship Id="rId14" Type="http://schemas.openxmlformats.org/officeDocument/2006/relationships/slide" Target="slide16.xml"/><Relationship Id="rId15" Type="http://schemas.openxmlformats.org/officeDocument/2006/relationships/slide" Target=""/><Relationship Id="rId16" Type="http://schemas.openxmlformats.org/officeDocument/2006/relationships/slide" Target="slide18.xml"/><Relationship Id="rId17" Type="http://schemas.openxmlformats.org/officeDocument/2006/relationships/slide" Target=""/><Relationship Id="rId18" Type="http://schemas.openxmlformats.org/officeDocument/2006/relationships/slide" Target="slide20.xml"/><Relationship Id="rId19" Type="http://schemas.openxmlformats.org/officeDocument/2006/relationships/slide" Target=""/><Relationship Id="rId20" Type="http://schemas.openxmlformats.org/officeDocument/2006/relationships/slide" Target="slide22.xml"/><Relationship Id="rId21" Type="http://schemas.openxmlformats.org/officeDocument/2006/relationships/slide" Target=""/><Relationship Id="rId22" Type="http://schemas.openxmlformats.org/officeDocument/2006/relationships/slide" Target=""/><Relationship Id="rId23" Type="http://schemas.openxmlformats.org/officeDocument/2006/relationships/slide" Target=""/><Relationship Id="rId24" Type="http://schemas.openxmlformats.org/officeDocument/2006/relationships/slide" Target=""/><Relationship Id="rId25" Type="http://schemas.openxmlformats.org/officeDocument/2006/relationships/slide" Target=""/><Relationship Id="rId26" Type="http://schemas.openxmlformats.org/officeDocument/2006/relationships/slide" Target=""/><Relationship Id="rId27" Type="http://schemas.openxmlformats.org/officeDocument/2006/relationships/slide" Target=""/><Relationship Id="rId28" Type="http://schemas.openxmlformats.org/officeDocument/2006/relationships/slide" Target=""/><Relationship Id="rId29" Type="http://schemas.openxmlformats.org/officeDocument/2006/relationships/slide" Target=""/><Relationship Id="rId30" Type="http://schemas.openxmlformats.org/officeDocument/2006/relationships/slide" Target=""/><Relationship Id="rId31" Type="http://schemas.openxmlformats.org/officeDocument/2006/relationships/slide" Target=""/><Relationship Id="rId32" Type="http://schemas.openxmlformats.org/officeDocument/2006/relationships/slide" Target=""/><Relationship Id="rId33" Type="http://schemas.openxmlformats.org/officeDocument/2006/relationships/slide" Target=""/><Relationship Id="rId34" Type="http://schemas.openxmlformats.org/officeDocument/2006/relationships/slide" Target=""/><Relationship Id="rId35" Type="http://schemas.openxmlformats.org/officeDocument/2006/relationships/slide" Target=""/><Relationship Id="rId3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>
            <a:hlinkClick r:id="rId1" action="ppaction://hlinksldjump"/>
          </p:cNvPr>
          <p:cNvSpPr/>
          <p:nvPr/>
        </p:nvSpPr>
        <p:spPr>
          <a:xfrm>
            <a:off x="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2" action="ppaction://hlinksldjump"/>
              </a:rPr>
              <a:t>2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rId3" action="ppaction://hlinksldjump"/>
          </p:cNvPr>
          <p:cNvSpPr/>
          <p:nvPr/>
        </p:nvSpPr>
        <p:spPr>
          <a:xfrm>
            <a:off x="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4" action="ppaction://hlinksldjump"/>
              </a:rPr>
              <a:t>3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rId5" action="ppaction://hlinksldjump"/>
          </p:cNvPr>
          <p:cNvSpPr/>
          <p:nvPr/>
        </p:nvSpPr>
        <p:spPr>
          <a:xfrm>
            <a:off x="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6" action="ppaction://hlinksldjump"/>
              </a:rPr>
              <a:t>4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rId7" action="ppaction://hlinksldjump"/>
          </p:cNvPr>
          <p:cNvSpPr/>
          <p:nvPr/>
        </p:nvSpPr>
        <p:spPr>
          <a:xfrm>
            <a:off x="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8" action="ppaction://hlinksldjump"/>
              </a:rPr>
              <a:t>5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9" action="ppaction://hlinksldjump"/>
          </p:cNvPr>
          <p:cNvSpPr/>
          <p:nvPr/>
        </p:nvSpPr>
        <p:spPr>
          <a:xfrm>
            <a:off x="18288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10" action="ppaction://hlinksldjump"/>
              </a:rPr>
              <a:t>1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11" action="ppaction://hlinksldjump"/>
          </p:cNvPr>
          <p:cNvSpPr/>
          <p:nvPr/>
        </p:nvSpPr>
        <p:spPr>
          <a:xfrm>
            <a:off x="18288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12" action="ppaction://hlinksldjump"/>
              </a:rPr>
              <a:t>2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13" action="ppaction://hlinksldjump"/>
          </p:cNvPr>
          <p:cNvSpPr/>
          <p:nvPr/>
        </p:nvSpPr>
        <p:spPr>
          <a:xfrm>
            <a:off x="18288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14" action="ppaction://hlinksldjump"/>
              </a:rPr>
              <a:t>3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15" action="ppaction://hlinksldjump"/>
          </p:cNvPr>
          <p:cNvSpPr/>
          <p:nvPr/>
        </p:nvSpPr>
        <p:spPr>
          <a:xfrm>
            <a:off x="18288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16" action="ppaction://hlinksldjump"/>
              </a:rPr>
              <a:t>4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17" action="ppaction://hlinksldjump"/>
          </p:cNvPr>
          <p:cNvSpPr/>
          <p:nvPr/>
        </p:nvSpPr>
        <p:spPr>
          <a:xfrm>
            <a:off x="18288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18" action="ppaction://hlinksldjump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19" action="ppaction://hlinksldjump"/>
          </p:cNvPr>
          <p:cNvSpPr/>
          <p:nvPr/>
        </p:nvSpPr>
        <p:spPr>
          <a:xfrm>
            <a:off x="36576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20" action="ppaction://hlinksldjump"/>
              </a:rPr>
              <a:t>1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21" action="ppaction://hlinksldjump"/>
          </p:cNvPr>
          <p:cNvSpPr/>
          <p:nvPr/>
        </p:nvSpPr>
        <p:spPr>
          <a:xfrm>
            <a:off x="36576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rId22" action="ppaction://hlinksldjump"/>
          </p:cNvPr>
          <p:cNvSpPr/>
          <p:nvPr/>
        </p:nvSpPr>
        <p:spPr>
          <a:xfrm>
            <a:off x="36576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3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rId23" action="ppaction://hlinksldjump"/>
          </p:cNvPr>
          <p:cNvSpPr/>
          <p:nvPr/>
        </p:nvSpPr>
        <p:spPr>
          <a:xfrm>
            <a:off x="36576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4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24" action="ppaction://hlinksldjump"/>
          </p:cNvPr>
          <p:cNvSpPr/>
          <p:nvPr/>
        </p:nvSpPr>
        <p:spPr>
          <a:xfrm>
            <a:off x="36576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25" action="ppaction://hlinksldjump"/>
          </p:cNvPr>
          <p:cNvSpPr/>
          <p:nvPr/>
        </p:nvSpPr>
        <p:spPr>
          <a:xfrm>
            <a:off x="54864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26" action="ppaction://hlinksldjump"/>
          </p:cNvPr>
          <p:cNvSpPr/>
          <p:nvPr/>
        </p:nvSpPr>
        <p:spPr>
          <a:xfrm>
            <a:off x="54864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rId27" action="ppaction://hlinksldjump"/>
          </p:cNvPr>
          <p:cNvSpPr/>
          <p:nvPr/>
        </p:nvSpPr>
        <p:spPr>
          <a:xfrm>
            <a:off x="54864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3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rId28" action="ppaction://hlinksldjump"/>
          </p:cNvPr>
          <p:cNvSpPr/>
          <p:nvPr/>
        </p:nvSpPr>
        <p:spPr>
          <a:xfrm>
            <a:off x="54864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4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29" action="ppaction://hlinksldjump"/>
          </p:cNvPr>
          <p:cNvSpPr/>
          <p:nvPr/>
        </p:nvSpPr>
        <p:spPr>
          <a:xfrm>
            <a:off x="54864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rId30" action="ppaction://hlinksldjump"/>
          </p:cNvPr>
          <p:cNvSpPr/>
          <p:nvPr/>
        </p:nvSpPr>
        <p:spPr>
          <a:xfrm>
            <a:off x="73152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31" action="ppaction://hlinksldjump"/>
          </p:cNvPr>
          <p:cNvSpPr/>
          <p:nvPr/>
        </p:nvSpPr>
        <p:spPr>
          <a:xfrm>
            <a:off x="73152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32" action="ppaction://hlinksldjump"/>
          </p:cNvPr>
          <p:cNvSpPr/>
          <p:nvPr/>
        </p:nvSpPr>
        <p:spPr>
          <a:xfrm>
            <a:off x="73152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3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33" action="ppaction://hlinksldjump"/>
          </p:cNvPr>
          <p:cNvSpPr/>
          <p:nvPr/>
        </p:nvSpPr>
        <p:spPr>
          <a:xfrm>
            <a:off x="73152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4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34" action="ppaction://hlinksldjump"/>
          </p:cNvPr>
          <p:cNvSpPr/>
          <p:nvPr/>
        </p:nvSpPr>
        <p:spPr>
          <a:xfrm>
            <a:off x="73152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rId35" action="ppaction://hlinksldjump"/>
          </p:cNvPr>
          <p:cNvSpPr/>
          <p:nvPr/>
        </p:nvSpPr>
        <p:spPr>
          <a:xfrm>
            <a:off x="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8288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6576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52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159600" y="304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63560" y="22860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439720" y="228600"/>
            <a:ext cx="621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21880" y="228600"/>
            <a:ext cx="552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095880" y="228600"/>
            <a:ext cx="623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926120" y="228600"/>
            <a:ext cx="621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142640" y="2362320"/>
            <a:ext cx="6363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se natural disasters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ccur daily in Japa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92800" y="2336760"/>
            <a:ext cx="6445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at are Earthquake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590920" y="3124080"/>
            <a:ext cx="3274920" cy="32752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688760" y="1905120"/>
            <a:ext cx="56840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language people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peak in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pa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12960" y="2057400"/>
            <a:ext cx="5024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at is Japanese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151080" y="2887560"/>
            <a:ext cx="2624400" cy="26751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066320" y="1828800"/>
            <a:ext cx="7463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se  Japanese  made  toy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re  popular  in  America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30960" y="2438280"/>
            <a:ext cx="5767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at are Pokemon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219320" y="3733920"/>
            <a:ext cx="2368440" cy="24508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124080" y="22860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87000" y="1523880"/>
            <a:ext cx="8136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pan is made up of four mai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 thousands of these sm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and form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526040" y="2209680"/>
            <a:ext cx="4888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at are island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438280" y="3276720"/>
            <a:ext cx="3376800" cy="22701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584360" y="40035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44400" y="2819520"/>
            <a:ext cx="7037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se are the three mai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obs people have in Japa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39160" y="2971800"/>
            <a:ext cx="8122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at are fishing, rice, and ca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production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038480" y="1219320"/>
            <a:ext cx="731880" cy="17859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 flipH="1" rot="10800000">
            <a:off x="4952880" y="2057400"/>
            <a:ext cx="3424320" cy="8920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1828800" y="1066680"/>
            <a:ext cx="1792440" cy="1795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0880" y="3017880"/>
            <a:ext cx="9103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is is the favorite sport in Japa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67520" y="2819520"/>
            <a:ext cx="7527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is is the highest mountai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 Japan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756440" y="3581280"/>
            <a:ext cx="4818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at is Mt. Fuji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3505320" y="1143000"/>
            <a:ext cx="1679400" cy="2182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98920" y="2895480"/>
            <a:ext cx="6683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is is the fastest way to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ravel on land in Japa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679760" y="4114800"/>
            <a:ext cx="5175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at is the Bullet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2286000" y="1981080"/>
            <a:ext cx="4156200" cy="2071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86880" y="2743200"/>
            <a:ext cx="761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se are Japan’s two main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xport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514600" y="2590920"/>
            <a:ext cx="4284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at are car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technology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14600" y="1371600"/>
            <a:ext cx="2239920" cy="12096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5562720" y="1371600"/>
            <a:ext cx="1708200" cy="13557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756440" y="2666880"/>
            <a:ext cx="5784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is is the tradition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dress for wom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 Japa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756800" y="3886200"/>
            <a:ext cx="5072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at is a kimono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52680" y="914400"/>
            <a:ext cx="2621160" cy="28861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65000" y="3276720"/>
            <a:ext cx="7715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is is Japan’s favorite foo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591280" y="2743200"/>
            <a:ext cx="363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at is rice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4191120" y="609480"/>
            <a:ext cx="825480" cy="20145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05120" y="2057400"/>
            <a:ext cx="5691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073960" y="2286000"/>
            <a:ext cx="4854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at is Baseball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3657600" y="3276720"/>
            <a:ext cx="1946160" cy="30859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82640" y="2286000"/>
            <a:ext cx="7038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is is how long Japanes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hildren go to school each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ek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372680" y="3429000"/>
            <a:ext cx="534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at are 5 ½ day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2438280" y="709560"/>
            <a:ext cx="4051440" cy="25002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83400" y="2743200"/>
            <a:ext cx="75463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is is the description of th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panese flag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9600" y="3048120"/>
            <a:ext cx="75279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at is a white backgroun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ith a red circle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2895480" y="1066680"/>
            <a:ext cx="2995560" cy="1936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45400" y="2743200"/>
            <a:ext cx="7259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is land form covers 70%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f Japan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993960" y="2819520"/>
            <a:ext cx="5834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at are mountain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1905120" y="914400"/>
            <a:ext cx="4124160" cy="19432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-55440" y="2971800"/>
            <a:ext cx="8037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Part of this gigantic ring of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volcanoes in the Pacific Oce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s located in Japa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916920" y="2971800"/>
            <a:ext cx="6427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at is the ring of fire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2971800" y="685800"/>
            <a:ext cx="2513160" cy="25131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31600" y="2971800"/>
            <a:ext cx="7886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is is a festival to rememb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cestor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756800" y="4267080"/>
            <a:ext cx="4107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at is Obon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1752480" y="609480"/>
            <a:ext cx="4002120" cy="36036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937040" y="2863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12720" y="2286000"/>
            <a:ext cx="788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is is what Pokemon mean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447920" y="3078000"/>
            <a:ext cx="624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13080" y="2514600"/>
            <a:ext cx="7360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is is the best loved drink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 Japan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371600" y="3079440"/>
            <a:ext cx="6248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at is green tea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2895480" y="304920"/>
            <a:ext cx="3167280" cy="29145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452960" y="2438280"/>
            <a:ext cx="65113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is country dropped 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tomic bombs on Japan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o end World War II?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371960" y="4267080"/>
            <a:ext cx="4888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at is America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2590920" y="914400"/>
            <a:ext cx="2735280" cy="27352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07440" y="2438280"/>
            <a:ext cx="8189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is is a type of wrestling that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requires very large wrestler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676520" y="3733920"/>
            <a:ext cx="4149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at is Sumo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2438280" y="380880"/>
            <a:ext cx="3016440" cy="31244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989280" y="2514600"/>
            <a:ext cx="67370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se are Japanese play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 which men and boy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play all the parts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605240" y="4267080"/>
            <a:ext cx="4615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at is Kabuki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057400" y="685800"/>
            <a:ext cx="3533760" cy="30081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914400" y="3048120"/>
            <a:ext cx="5388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okyo is located on this islan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909080" y="4191120"/>
            <a:ext cx="4684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at is Honshu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2666880" y="380880"/>
            <a:ext cx="3162600" cy="35974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753080" y="2556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85640" y="2819520"/>
            <a:ext cx="4533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Pocket Monster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819520" y="3886200"/>
            <a:ext cx="3124080" cy="2044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918720" y="2438280"/>
            <a:ext cx="732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is is the capital of Japa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2364840" y="3809880"/>
            <a:ext cx="4312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at is Tokyo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2209680" y="685800"/>
            <a:ext cx="4604040" cy="25750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549680" y="3052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01280" y="2895480"/>
            <a:ext cx="5785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se are traditional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panese shoe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714920" y="2900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86360" y="2590920"/>
            <a:ext cx="4380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at are clog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9960" y="1752480"/>
            <a:ext cx="9106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se are the lunchtime servers a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chool in Japa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032280" y="4648320"/>
            <a:ext cx="313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675440" y="1981080"/>
            <a:ext cx="5837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at are classmate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200400" y="3124080"/>
            <a:ext cx="2895480" cy="28749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9T17:45:48Z</dcterms:created>
  <dc:creator>Eleanor M. Savko</dc:creator>
  <dc:description/>
  <dc:language>en-US</dc:language>
  <cp:lastModifiedBy>CSeccombe</cp:lastModifiedBy>
  <dcterms:modified xsi:type="dcterms:W3CDTF">2005-04-05T13:33:43Z</dcterms:modified>
  <cp:revision>67</cp:revision>
  <dc:subject/>
  <dc:title>Blank Jeopardy</dc:title>
</cp:coreProperties>
</file>