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8D4-7950-4134-B467-FD8A8FC1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AA0-19A3-4F8A-A7C9-7196801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C58-D6A1-4392-AA90-74EC3765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6C0-C782-4361-8C41-BDC0483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E73-FB5E-41BA-B6B6-70B8DAE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E81-E3D4-4A21-A37F-EABBFDA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D9D-5651-4AC8-8B79-591D7F81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775-FB30-4D54-9CB6-E93FB2D6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41C-CCCD-497C-8C9D-1EE60920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36C-5985-48E4-90F5-73FF5E7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7BB-A852-49E0-A24F-7D461C5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1B3-0DFB-419B-8F15-A4A83CA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E3D-03E2-41EA-8ADD-ABBB82F145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955-313D-435F-A8B8-DD62917D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560" y="2286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9720" y="228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1880" y="2286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228600"/>
            <a:ext cx="6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6120" y="228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2640" y="2362320"/>
            <a:ext cx="636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natural disast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ccur daily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92800" y="2336760"/>
            <a:ext cx="644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274920" cy="32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88760" y="1905120"/>
            <a:ext cx="568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nguage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2960" y="205740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Japane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51080" y="2887560"/>
            <a:ext cx="2624400" cy="26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320" y="1828800"/>
            <a:ext cx="746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 Japanese  made  to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 popular  in  Americ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0960" y="2438280"/>
            <a:ext cx="576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Pokem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2368440" cy="245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2860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000" y="15238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 is made up of four m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 thousands of these 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6040" y="2209680"/>
            <a:ext cx="488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islan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3376800" cy="227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43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400" y="2819520"/>
            <a:ext cx="70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three m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obs people have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160" y="2971800"/>
            <a:ext cx="812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fishing, rice, and 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du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731880" cy="178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flipH="1" rot="10800000">
            <a:off x="4952880" y="2057400"/>
            <a:ext cx="3424320" cy="89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828800" y="1066680"/>
            <a:ext cx="1792440" cy="17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880" y="3017880"/>
            <a:ext cx="910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favorite sport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7520" y="2819520"/>
            <a:ext cx="75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highest mount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6440" y="35812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Mt. Fuj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1679400" cy="218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8920" y="2895480"/>
            <a:ext cx="66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fastest way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vel on land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9760" y="4114800"/>
            <a:ext cx="51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ull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15620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6880" y="2743200"/>
            <a:ext cx="761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Japan’s two m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po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590920"/>
            <a:ext cx="42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chnolog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239920" cy="120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1708200" cy="13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6440" y="2666880"/>
            <a:ext cx="578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tradi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ss for wo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6800" y="3886200"/>
            <a:ext cx="50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kim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2621160" cy="28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5000" y="327672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Japan’s favorite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1280" y="2743200"/>
            <a:ext cx="36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ri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82548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057400"/>
            <a:ext cx="56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73960" y="228600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Baseba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946160" cy="30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2640" y="2286000"/>
            <a:ext cx="703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how long Japane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ildren go to school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2680" y="3429000"/>
            <a:ext cx="534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5 ½ day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709560"/>
            <a:ext cx="4051440" cy="25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3400" y="2743200"/>
            <a:ext cx="754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description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ese fla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3048120"/>
            <a:ext cx="752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white back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 red cir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995560" cy="1936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5400" y="2743200"/>
            <a:ext cx="72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land form covers 7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Japa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3960" y="2819520"/>
            <a:ext cx="58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mountai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4124160" cy="19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55440" y="2971800"/>
            <a:ext cx="8037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 of this gigantic ring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lcanoes in the Pacific Oce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located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6920" y="2971800"/>
            <a:ext cx="642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ring of fi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600" y="2971800"/>
            <a:ext cx="78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a festival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cest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6800" y="4267080"/>
            <a:ext cx="410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Ob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002120" cy="360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2286000"/>
            <a:ext cx="78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what Pokemon mea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3080" y="2514600"/>
            <a:ext cx="736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best loved drin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71600" y="307944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green te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167280" cy="291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960" y="2438280"/>
            <a:ext cx="651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country dropped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omic bombs on Jap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nd World War II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960" y="4267080"/>
            <a:ext cx="488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440" y="2438280"/>
            <a:ext cx="818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a type of wrestling th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quires very large wrestl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733920"/>
            <a:ext cx="41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um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01644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89280" y="2514600"/>
            <a:ext cx="673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Japanese pl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ich men and bo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y all the part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5240" y="4267080"/>
            <a:ext cx="461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Kabu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353376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048120"/>
            <a:ext cx="538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kyo is located on this is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9080" y="4191120"/>
            <a:ext cx="46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Honsh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62600" cy="359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5640" y="2819520"/>
            <a:ext cx="453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cket Mons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8720" y="2438280"/>
            <a:ext cx="732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capital of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364840" y="3809880"/>
            <a:ext cx="43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oky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604040" cy="257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1280" y="2895480"/>
            <a:ext cx="57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radition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ese sho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360" y="2590920"/>
            <a:ext cx="438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lo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60" y="1752480"/>
            <a:ext cx="910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lunchtime servers 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hool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2280" y="464832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5440" y="1981080"/>
            <a:ext cx="583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lassm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895480" cy="287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3:43Z</dcterms:modified>
  <cp:revision>67</cp:revision>
  <dc:subject/>
  <dc:title>Blank Jeopardy</dc:title>
</cp:coreProperties>
</file>