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E8F-DC87-488D-BBAC-6C1BD8E3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058-0A50-4657-B38A-CADEE6D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6B4-6FBB-46C2-BD32-A44038AA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278-4BE7-4076-9541-75006CD5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FDA-476B-4075-8913-2B49E755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0C1-DA48-47DD-AA34-D814DDC2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8FC-87AE-48EA-A679-3AD11E3A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814-9156-4BEE-B5AA-FA2D42DF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509-7403-46DF-873E-36BB6846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326-313E-4A89-8BF1-F9C0F9BE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B1F-2DCC-47B2-ADA3-54A00999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8C7-9A84-4685-853C-9849A06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ADA2-849B-4940-84BB-A3FFA83546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E3D8-114E-4E7A-B108-B26FC4030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CSeccombe</cp:lastModifiedBy>
  <dcterms:modified xsi:type="dcterms:W3CDTF">2005-04-05T13:38:44Z</dcterms:modified>
  <cp:revision>29</cp:revision>
  <dc:subject/>
  <dc:title>Blank Jeopardy</dc:title>
</cp:coreProperties>
</file>