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427-A3FD-47F5-B688-85D6520D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178-A8A1-4E67-BAFC-B56AAD5F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BFA-29FF-4189-B01E-9C5BE6A0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C9B-C9F6-40CD-A7E4-E3FD0E85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251-FE12-4B76-A684-D2D44616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61E-94D6-46A6-9F41-A1859E06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DB3-EC92-4446-95B7-1864CD1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EAE-DA21-47EE-92F5-80F002D1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B82-E4C1-4ECC-8A53-E66E366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824-94DC-4155-B851-7CB4A11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667-8908-41ED-B7A0-EF486D3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752-7C84-4394-B6D0-D6F9644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708-EEF1-4AEC-81F8-8A1A571297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6EC-3084-4C76-877C-2C3632794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38:44Z</dcterms:modified>
  <cp:revision>29</cp:revision>
  <dc:subject/>
  <dc:title>Blank Jeopardy</dc:title>
</cp:coreProperties>
</file>