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2EA-6249-4FC7-AA4C-0D3DB823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62E-AB1F-4C67-98DC-4B94C0A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7C7-07F1-40FE-85E2-89EBAADF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DC4-80B2-44CD-A592-0D64C055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13A-C1DE-4048-BB80-07A66D42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2A7-149C-488D-9FBC-5DDB2093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4A5-EE19-4587-917D-27B5BEE7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0D1-FC90-4E4B-B1BF-AC91F1E2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647-23E1-43EF-A6F3-13285C8C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AB5-2861-4954-BAB0-10977CCA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667-103C-447C-B5A2-7A6CF8D7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AB7-4634-4570-8E9F-B6F5F7F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703B-1CBF-4E31-8143-6E8779AC0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slide16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slide11.xml"/><Relationship Id="rId16" Type="http://schemas.openxmlformats.org/officeDocument/2006/relationships/slide" Target=""/><Relationship Id="rId17" Type="http://schemas.openxmlformats.org/officeDocument/2006/relationships/slide" Target="slide12.xm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slide7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slide19.xml"/><Relationship Id="rId26" Type="http://schemas.openxmlformats.org/officeDocument/2006/relationships/slide" Target=""/><Relationship Id="rId27" Type="http://schemas.openxmlformats.org/officeDocument/2006/relationships/slide" Target="slide20.xml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slide3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6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Diane Huff</dc:creator>
  <dc:description>Created by Jerry Myers. Modified by Diane Huff for 2004 Training.</dc:description>
  <dc:language>en-US</dc:language>
  <cp:lastModifiedBy>CSeccombe</cp:lastModifiedBy>
  <cp:lastPrinted>2001-01-31T16:21:13Z</cp:lastPrinted>
  <dcterms:modified xsi:type="dcterms:W3CDTF">2005-04-05T13:40:02Z</dcterms:modified>
  <cp:revision>6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