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34B-C296-4C6D-90FA-D8E6FFD2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1EA-CE83-40AC-A320-D03CAA7F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98F-4F0E-45CB-8EF0-27BF0CA6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372-0220-4554-9C10-39D658DC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381-F024-40DA-AE6C-6E2E8E2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462-EF09-4BF4-8E24-07F5F40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6E7-0800-4309-BECC-CB6EE33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1A1-E868-4800-B845-BACB351C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FA1-67CD-451E-9068-3BEF02DC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4A5-269E-4C04-AE9C-4EC4A3B8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438-D082-44D6-A318-FE48D2FB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935-0D41-4FEA-ADD5-D1E43E3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FF87-7416-4A5D-A0AC-5D717FF05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16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11.xml"/><Relationship Id="rId16" Type="http://schemas.openxmlformats.org/officeDocument/2006/relationships/slide" Target=""/><Relationship Id="rId17" Type="http://schemas.openxmlformats.org/officeDocument/2006/relationships/slide" Target="slide12.xm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7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slide19.xml"/><Relationship Id="rId26" Type="http://schemas.openxmlformats.org/officeDocument/2006/relationships/slide" Target=""/><Relationship Id="rId27" Type="http://schemas.openxmlformats.org/officeDocument/2006/relationships/slide" Target="slide20.xml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Diane Huff</dc:creator>
  <dc:description>Created by Jerry Myers. Modified by Diane Huff for 2004 Training.</dc:description>
  <dc:language>en-US</dc:language>
  <cp:lastModifiedBy>CSeccombe</cp:lastModifiedBy>
  <cp:lastPrinted>2001-01-31T16:21:13Z</cp:lastPrinted>
  <dcterms:modified xsi:type="dcterms:W3CDTF">2005-04-05T13:40:02Z</dcterms:modified>
  <cp:revision>6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