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6174-82D9-400E-9061-3CED31719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3832-8AB0-4755-B9D3-F92209B7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C9B4-5FA5-4AE1-A2AA-4D7ED2B06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454C-EF17-4009-B975-305261CD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173B-2634-47A5-9F69-5B1872E4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B023-20D4-405E-ADB2-799B0A85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E4D6-B899-4747-B86E-14A8FDF3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7746-AD0A-4F91-AF18-9C346076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C1C7-FB79-4D91-B3D3-F6E2F4F9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FC03-A7E4-4255-A91D-9B5D9675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6FFA-1E23-42C5-A41C-03009340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B5CA-921D-4016-BDCC-134FA187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1E98-9118-4474-A71D-86C476DA8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29200" y="152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25588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781520" y="1009800"/>
            <a:ext cx="413388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ark E. Damo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647712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2001 - All Rights 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7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7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7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7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142884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7360" y="6338880"/>
            <a:ext cx="16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52280" y="76320"/>
            <a:ext cx="1523880" cy="5181120"/>
            <a:chOff x="152280" y="76320"/>
            <a:chExt cx="1523880" cy="5181120"/>
          </a:xfrm>
        </p:grpSpPr>
        <p:sp>
          <p:nvSpPr>
            <p:cNvPr id="52" name=""/>
            <p:cNvSpPr/>
            <p:nvPr/>
          </p:nvSpPr>
          <p:spPr>
            <a:xfrm>
              <a:off x="152280" y="440712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2280" y="378828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5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280" y="31694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2280" y="25509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2280" y="19321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280" y="13136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2280" y="6951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2280" y="763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315200" y="1219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91520" y="4191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14:15:00Z</dcterms:created>
  <dc:creator>Mark E. Damon</dc:creator>
  <dc:description/>
  <dc:language>en-US</dc:language>
  <cp:lastModifiedBy>CSeccombe</cp:lastModifiedBy>
  <dcterms:modified xsi:type="dcterms:W3CDTF">2005-04-05T13:43:13Z</dcterms:modified>
  <cp:revision>17</cp:revision>
  <dc:subject/>
  <dc:title>No Slide Title</dc:title>
</cp:coreProperties>
</file>