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1EFB-A72C-41DF-99D0-C1699411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D8D1-9E6A-41BD-AA1E-51F0B18B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9B21-E708-4D75-A74A-3CCBB47C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5A9B-4B93-4EF8-A759-C96C0677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2DD2-5973-4A7C-A3D9-EE8C1207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EB62-C99B-4374-B8D7-8462AD37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C3D6-00AC-4C02-B1D6-F570A4C1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D33E-AF39-4CB4-AF51-C694F6DB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A64D-EB19-4FD6-948C-31AB1D67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52A8-732B-4269-BA14-DE8A57F9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64E0-6C5B-43CA-8534-D397F7E5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D722-0FE1-453B-A785-BC27AA6F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F8B1-B9F8-4D7F-B176-F899EB067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152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2558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81520" y="1009800"/>
            <a:ext cx="4133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ark E. Dam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64771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01 - All Rights 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7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7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7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7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42884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7360" y="6338880"/>
            <a:ext cx="16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2280" y="76320"/>
            <a:ext cx="1523880" cy="5181120"/>
            <a:chOff x="152280" y="76320"/>
            <a:chExt cx="1523880" cy="5181120"/>
          </a:xfrm>
        </p:grpSpPr>
        <p:sp>
          <p:nvSpPr>
            <p:cNvPr id="52" name=""/>
            <p:cNvSpPr/>
            <p:nvPr/>
          </p:nvSpPr>
          <p:spPr>
            <a:xfrm>
              <a:off x="152280" y="440712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2280" y="378828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280" y="31694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280" y="25509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2280" y="19321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280" y="13136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2280" y="6951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280" y="763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315200" y="1219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14:15:00Z</dcterms:created>
  <dc:creator>Mark E. Damon</dc:creator>
  <dc:description/>
  <dc:language>en-US</dc:language>
  <cp:lastModifiedBy>CSeccombe</cp:lastModifiedBy>
  <dcterms:modified xsi:type="dcterms:W3CDTF">2005-04-05T13:43:13Z</dcterms:modified>
  <cp:revision>17</cp:revision>
  <dc:subject/>
  <dc:title>No Slide Title</dc:title>
</cp:coreProperties>
</file>