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75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2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700"/>
                            </p:stCondLst>
                            <p:childTnLst>
                              <p:par>
                                <p:cTn id="2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2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8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" fill="hold"/>
                                        <p:tgtEl>
                                          <p:spTgt spid="9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" fill="hold"/>
                                        <p:tgtEl>
                                          <p:spTgt spid="9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9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1" fill="hold"/>
                                        <p:tgtEl>
                                          <p:spTgt spid="1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75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200"/>
                            </p:stCondLst>
                            <p:childTnLst>
                              <p:par>
                                <p:cTn id="4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700"/>
                            </p:stCondLst>
                            <p:childTnLst>
                              <p:par>
                                <p:cTn id="4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2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1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" fill="hold"/>
                                        <p:tgtEl>
                                          <p:spTgt spid="1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0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1" fill="hold"/>
                                        <p:tgtEl>
                                          <p:spTgt spid="1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1" fill="hold"/>
                                        <p:tgtEl>
                                          <p:spTgt spid="1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1" fill="hold"/>
                                        <p:tgtEl>
                                          <p:spTgt spid="1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5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1" fill="hold"/>
                                        <p:tgtEl>
                                          <p:spTgt spid="1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1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7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9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9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88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89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99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05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14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22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31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39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47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55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1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CSeccombe</cp:lastModifiedBy>
  <dcterms:modified xsi:type="dcterms:W3CDTF">2005-04-05T13:45:05Z</dcterms:modified>
  <cp:revision>18</cp:revision>
  <dc:subject/>
  <dc:title>No Slide Title</dc:title>
</cp:coreProperties>
</file>