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oney-close.wav" ContentType="audio/x-wav"/>
  <Override PartName="/ppt/media/carcr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3F0F-E403-4F38-87A5-4DEFAA1A3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A329-E31C-4F77-A0ED-517100C4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B710-F3C5-42FE-B9B9-917B5EB6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DC3B-2B10-4BCB-8219-97209088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F0E5-9D9E-47F4-8ACD-A4B1C317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F99D-C5F9-40E1-8B14-29EE53C1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4D26-33C3-44B7-B7B7-C2CB99E1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795D-DEBD-4B85-903C-CAA28E88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95C1-8996-4BFC-A53B-CE14600D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9285-10CE-4A33-BECE-7CDEDCBE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309E-284C-4D3C-BAB5-922AB1FF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85C3-5EEC-4D19-89BD-2430E596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8120-934D-48E6-88EC-E2967C2F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78EC-5783-40F9-812A-20B3D8F6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13D4-3D34-459A-8070-E5EF77FB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5D20-259F-4F2F-A401-FEC90473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288E-2F92-481F-AC47-402FC180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3145-DE65-44DF-85AD-72B706C9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5B2B-62DB-4B7B-A62A-7BD43E5C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F01D-C4CD-4C44-A099-93D04953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1648-D6F7-4C24-866C-8665B9A9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06AD-01A9-437A-9431-B52FB1CB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1E73-FA29-4216-BD10-721FAA22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A182-60D9-4A9E-9D29-7E38B9B6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BE14-299D-4B45-8388-FB2A7673A463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92EF-A950-4BB6-BA4E-D211FF48710D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loney-close.wav"/><Relationship Id="rId3" Type="http://schemas.openxmlformats.org/officeDocument/2006/relationships/audio" Target="../media/carcrsh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wenty Questions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loney-cl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cr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enty Ques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362320"/>
          <a:ext cx="7692840" cy="3724200"/>
        </p:xfrm>
        <a:graphic>
          <a:graphicData uri="http://schemas.openxmlformats.org/drawingml/2006/table">
            <a:tbl>
              <a:tblPr/>
              <a:tblGrid>
                <a:gridCol w="1538640"/>
                <a:gridCol w="1538640"/>
                <a:gridCol w="1538280"/>
                <a:gridCol w="1538640"/>
                <a:gridCol w="1538640"/>
              </a:tblGrid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5:03:25Z</dcterms:created>
  <dc:creator>Connie Campbell</dc:creator>
  <dc:description/>
  <dc:language>en-US</dc:language>
  <cp:lastModifiedBy>CSeccombe</cp:lastModifiedBy>
  <dcterms:modified xsi:type="dcterms:W3CDTF">2005-04-05T13:46:45Z</dcterms:modified>
  <cp:revision>3</cp:revision>
  <dc:subject/>
  <dc:title>Twenty Questions </dc:title>
</cp:coreProperties>
</file>