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33C-9D2F-4287-A79B-81B5C98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EFA-38DD-44EC-B73C-EF75D26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872-E3AA-4982-B197-46E03A48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A16-B07F-4916-B3F7-3532022F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2FF-255C-4A66-B6F8-5BAD34DE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BB2-DB1F-463D-B448-E78DB930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F54-D36B-4084-BFDA-21022D5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146E-375D-4572-AFD7-44AFA71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ED4-BDB5-4056-A0E7-787D51F1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089B-36E0-4F7D-A399-5F4C33B2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7EF-49B9-4461-A00E-A607CEF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6B5-27DB-4706-B47F-32D4ADE0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3A3D-8E29-4948-BB62-EE74A00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8FA-75E5-4937-B2EA-89F124F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E1C-BEF5-4847-9725-CD7C9E4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B6DC-2167-4F42-9626-6AD034C1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6DF-DDA9-4907-BFF7-EB747AD7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331-4D29-47BB-B2CA-7C98B16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667-9A14-4B90-B38E-44D17F8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3ED-4EDE-4148-BD06-199C278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DB8-3154-43C7-805B-AEF1519F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225-6048-410F-9E71-F1B68B5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7E7-D287-4F74-9F21-EAD37CD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00F-47F6-41C8-9E3C-1527E98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178-953F-4B5B-AC45-B98143A1516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002-12D2-43CA-9202-79C44EBB12C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Seccombe</cp:lastModifiedBy>
  <dcterms:modified xsi:type="dcterms:W3CDTF">2005-04-05T13:46:45Z</dcterms:modified>
  <cp:revision>3</cp:revision>
  <dc:subject/>
  <dc:title>Twenty Questions </dc:title>
</cp:coreProperties>
</file>