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B97D-AD53-40B4-A438-8D167285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569F-D90D-4EFB-A3C4-1FFD0E16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2C9D-87FD-4FFB-A51D-1A4E9121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08A4-81B2-411C-BBF7-B493B0BB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2EF8-1C87-44BC-A6E5-C0C7EC87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80BA-9570-46AE-90F1-D1CA0244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74A-E330-4DF5-914F-F3574F9D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3D60-8C9B-4E69-81C5-DF1152D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1CEF-A5A4-468E-8736-B2EB70E9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E20A-3692-4693-B9F7-C872C781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30DC-42AE-4221-9540-EBB1FD7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17D6-0B5F-4454-9542-3463EF0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51F7-F651-4CF0-A988-77903975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9F88-3E0E-4FBC-A0B4-D2682C6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A34A-EE8F-4D6B-B068-E37913C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14E3-0B19-4AF4-BC71-3228D408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F0F4-2E2B-4B46-BAD4-D2021D36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E3EF-553A-440D-8307-958F2A1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0484-3DDE-403B-94E5-6C80ED8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0D47-9B99-41A4-A08A-2B47C39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31F6-03AC-4DFB-96E6-34A46D28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78D8-B7CA-4B67-B967-851B476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33F3-FF35-47BB-AE54-BF647918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79D3-0FA1-415C-9804-F76D1A8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87C6-E13E-4870-97EA-108E24FC29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1B61-C456-4461-92C9-1188A55BC6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Seccombe</cp:lastModifiedBy>
  <dcterms:modified xsi:type="dcterms:W3CDTF">2005-04-05T13:51:48Z</dcterms:modified>
  <cp:revision>4</cp:revision>
  <dc:subject/>
  <dc:title>Guess the Covered Word</dc:title>
</cp:coreProperties>
</file>