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hilari2.wav" ContentType="audio/x-wav"/>
  <Override PartName="/ppt/media/cowbell.wav" ContentType="audio/x-wav"/>
  <Override PartName="/ppt/media/RENSCREM.wav" ContentType="audio/x-wav"/>
  <Override PartName="/ppt/media/kiss2.wav" ContentType="audio/x-wav"/>
  <Override PartName="/ppt/media/cartoon3.wav" ContentType="audio/x-wav"/>
  <Override PartName="/ppt/media/cartoon2.wav" ContentType="audio/x-wav"/>
  <Override PartName="/ppt/media/cartoon1.wav" ContentType="audio/x-wav"/>
  <Override PartName="/ppt/media/door1.wav" ContentType="audio/x-wav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574C-5921-417A-AD76-8DFD5B2D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ED45-19BC-4A35-8A99-750F05CD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1F93-60A7-4352-A7AE-85FB1037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268F8-F0FE-422A-A330-727F1DEA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0AE5-1E46-4E51-964F-C0A2138A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B5AB-43F9-4935-97BF-EB9412D7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C902-4143-43C5-A0EA-3D8AA11E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7C5F-BDB3-431F-A9BE-6FBCCD88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C076-990D-41FD-9CAA-8D90003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98C7-A77C-4781-8BB3-7778E6F4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1051-A6B0-4202-A269-053A6710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3ADC-C32A-4E11-B499-12D7E73B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2B7B-A355-46BB-9EDC-88E64747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186F-A42F-43CB-B2EC-ED116F26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85AB-C646-4DB5-94CF-A4706B1D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79B9-A956-4BE8-A6E0-ACDE2A96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12B9-3B3F-428A-A3B4-373E280E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46A7-477F-49AA-8ADE-1D24B5E2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2D91-403D-441E-AD60-4F782F94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4F4A-81A1-406E-B142-51C026F5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85EB-FB6F-492C-810C-ECAE0F87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C55D-F6D0-4073-B8F9-CEB900BA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D5F8E-515C-46FD-93D6-76032E22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E73D-546C-4036-A959-40D69847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6C5C-F38F-40CA-BD63-2ACBFAD70B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1156-66B1-4CF1-A2FE-ABC0106E49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or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NSCREM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2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NSCR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review our words.  Watch carefully because they will flash on the screen for just a moment. We will clap as we spell the wor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Type 1</a:t>
            </a:r>
            <a:r>
              <a:rPr b="1" lang="en-US" sz="9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1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CSeccombe</cp:lastModifiedBy>
  <dcterms:modified xsi:type="dcterms:W3CDTF">2005-04-05T13:51:48Z</dcterms:modified>
  <cp:revision>4</cp:revision>
  <dc:subject/>
  <dc:title>Guess the Covered Word</dc:title>
</cp:coreProperties>
</file>