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2ED-92D6-4744-9599-39E54B7F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FD1-FDF0-48AA-9856-9577101D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048-3660-4C5C-BC14-63D6C4D8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BA5-858D-4AC9-AB7E-079F14D3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ACCA-7623-45D6-89AD-6761FD40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81E0-93EA-4AF0-93F1-7ECF6DF8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CF10-A3A3-4146-93DA-CC2E4028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DDD0-A2B7-44BC-A887-DB2825ED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99F5-1F75-4F44-B0D2-000C9F3F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AD02-F3B8-4A6D-8170-8734281D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B31D-9BC2-487C-B5C7-9C648789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B41-E25D-433D-83AB-58FD9310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7BD7-20A4-4DE8-A3CB-E498A915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8579-E5BE-48E7-8C39-33984F2D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6A38-31D9-4B6C-9C4F-E7333F76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0184-92CF-408D-824A-C34648E0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524E-85CC-4AA2-8179-A35E3D7E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3B5B-6179-490F-819D-730B6477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86F6-4B36-46F4-8EF7-B0E66782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A51D-841B-4BD9-9BEE-D245BA95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E2DD-F927-496F-8771-B33DD2EE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A58D-782F-448C-BCF4-F4DB4848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35F-DB1B-4D53-87C4-A3D0E73E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E78B3-0B03-4AEB-A9EF-85E1A9D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B8FD-B722-4892-8F7B-51639EA3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93D82-F043-46EE-80A7-51A92CD4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F8FE-980F-456F-8E38-EB11637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7A73-3E1A-4064-A130-AD7DF468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E7278-4218-4DD2-B200-9E55D474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0A90-1F66-46C2-BC86-C51EB6EC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63B-5E07-4256-A302-0F241AD8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C7A-70A2-4F26-81F8-4858FAC6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46E-F974-4F9F-98D0-A29081ED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5EE-F148-4AB5-AE50-45BA2619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104-EA81-443F-8891-40C86F94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25A-CFFE-4D06-BE59-A632E26C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DB71-284D-4AB8-A66D-E8942A1C48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3060-1702-4E4B-B8B7-6EBB7A9BBA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B63A-ED91-4BD6-A816-9699A6C3D95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"/>
          <p:cNvGrpSpPr/>
          <p:nvPr/>
        </p:nvGrpSpPr>
        <p:grpSpPr>
          <a:xfrm>
            <a:off x="4427640" y="0"/>
            <a:ext cx="2808000" cy="2625840"/>
            <a:chOff x="4427640" y="0"/>
            <a:chExt cx="2808000" cy="2625840"/>
          </a:xfrm>
        </p:grpSpPr>
        <p:pic>
          <p:nvPicPr>
            <p:cNvPr id="124" name="Picture 6" descr="blue (2)"/>
            <p:cNvPicPr/>
            <p:nvPr/>
          </p:nvPicPr>
          <p:blipFill>
            <a:blip r:embed="rId1"/>
            <a:stretch/>
          </p:blipFill>
          <p:spPr>
            <a:xfrm>
              <a:off x="4427640" y="0"/>
              <a:ext cx="280800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5580000" y="865080"/>
              <a:ext cx="64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1332000" y="1773360"/>
            <a:ext cx="2808360" cy="2579400"/>
            <a:chOff x="1332000" y="1773360"/>
            <a:chExt cx="2808360" cy="2579400"/>
          </a:xfrm>
        </p:grpSpPr>
        <p:pic>
          <p:nvPicPr>
            <p:cNvPr id="127" name="Picture 9" descr="orange (2)"/>
            <p:cNvPicPr/>
            <p:nvPr/>
          </p:nvPicPr>
          <p:blipFill>
            <a:blip r:embed="rId2"/>
            <a:stretch/>
          </p:blipFill>
          <p:spPr>
            <a:xfrm>
              <a:off x="1332000" y="1773360"/>
              <a:ext cx="2808360" cy="25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2413080" y="2492280"/>
              <a:ext cx="79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5796000" y="0"/>
            <a:ext cx="3023640" cy="2707920"/>
            <a:chOff x="5796000" y="0"/>
            <a:chExt cx="3023640" cy="2707920"/>
          </a:xfrm>
        </p:grpSpPr>
        <p:pic>
          <p:nvPicPr>
            <p:cNvPr id="130" name="Picture 12" descr="pink (2)"/>
            <p:cNvPicPr/>
            <p:nvPr/>
          </p:nvPicPr>
          <p:blipFill>
            <a:blip r:embed="rId3"/>
            <a:stretch/>
          </p:blipFill>
          <p:spPr>
            <a:xfrm>
              <a:off x="5796000" y="0"/>
              <a:ext cx="3023640" cy="27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6958440" y="826200"/>
              <a:ext cx="100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2411280" y="2852640"/>
            <a:ext cx="2881440" cy="2662200"/>
            <a:chOff x="2411280" y="2852640"/>
            <a:chExt cx="2881440" cy="2662200"/>
          </a:xfrm>
        </p:grpSpPr>
        <p:pic>
          <p:nvPicPr>
            <p:cNvPr id="133" name="Picture 15" descr="purple (2)"/>
            <p:cNvPicPr/>
            <p:nvPr/>
          </p:nvPicPr>
          <p:blipFill>
            <a:blip r:embed="rId4"/>
            <a:stretch/>
          </p:blipFill>
          <p:spPr>
            <a:xfrm>
              <a:off x="2411280" y="2852640"/>
              <a:ext cx="2881440" cy="26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/>
            <p:cNvSpPr/>
            <p:nvPr/>
          </p:nvSpPr>
          <p:spPr>
            <a:xfrm>
              <a:off x="3490920" y="3644640"/>
              <a:ext cx="64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3132000" y="3284640"/>
            <a:ext cx="2880000" cy="2657160"/>
            <a:chOff x="3132000" y="3284640"/>
            <a:chExt cx="2880000" cy="2657160"/>
          </a:xfrm>
        </p:grpSpPr>
        <p:pic>
          <p:nvPicPr>
            <p:cNvPr id="136" name="Picture 18" descr="red (2)"/>
            <p:cNvPicPr/>
            <p:nvPr/>
          </p:nvPicPr>
          <p:blipFill>
            <a:blip r:embed="rId5"/>
            <a:stretch/>
          </p:blipFill>
          <p:spPr>
            <a:xfrm>
              <a:off x="3132000" y="3284640"/>
              <a:ext cx="2880000" cy="26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/>
            <p:cNvSpPr/>
            <p:nvPr/>
          </p:nvSpPr>
          <p:spPr>
            <a:xfrm>
              <a:off x="4211640" y="4076640"/>
              <a:ext cx="86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11280" y="3645000"/>
            <a:ext cx="2950920" cy="2684520"/>
            <a:chOff x="611280" y="3645000"/>
            <a:chExt cx="2950920" cy="2684520"/>
          </a:xfrm>
        </p:grpSpPr>
        <p:pic>
          <p:nvPicPr>
            <p:cNvPr id="139" name="Picture 21" descr="yellow (2)"/>
            <p:cNvPicPr/>
            <p:nvPr/>
          </p:nvPicPr>
          <p:blipFill>
            <a:blip r:embed="rId6"/>
            <a:stretch/>
          </p:blipFill>
          <p:spPr>
            <a:xfrm>
              <a:off x="611280" y="3645000"/>
              <a:ext cx="2950920" cy="26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2"/>
            <p:cNvSpPr/>
            <p:nvPr/>
          </p:nvSpPr>
          <p:spPr>
            <a:xfrm>
              <a:off x="1690560" y="4508640"/>
              <a:ext cx="10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1" name="Group 23"/>
          <p:cNvGrpSpPr/>
          <p:nvPr/>
        </p:nvGrpSpPr>
        <p:grpSpPr>
          <a:xfrm>
            <a:off x="1332000" y="260280"/>
            <a:ext cx="3025800" cy="2792520"/>
            <a:chOff x="1332000" y="260280"/>
            <a:chExt cx="3025800" cy="2792520"/>
          </a:xfrm>
        </p:grpSpPr>
        <p:pic>
          <p:nvPicPr>
            <p:cNvPr id="142" name="Picture 24" descr="brown"/>
            <p:cNvPicPr/>
            <p:nvPr/>
          </p:nvPicPr>
          <p:blipFill>
            <a:blip r:embed="rId7"/>
            <a:stretch/>
          </p:blipFill>
          <p:spPr>
            <a:xfrm>
              <a:off x="1332000" y="260280"/>
              <a:ext cx="302580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25"/>
            <p:cNvSpPr/>
            <p:nvPr/>
          </p:nvSpPr>
          <p:spPr>
            <a:xfrm>
              <a:off x="2483280" y="1197000"/>
              <a:ext cx="86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4" name="Group 26"/>
          <p:cNvGrpSpPr/>
          <p:nvPr/>
        </p:nvGrpSpPr>
        <p:grpSpPr>
          <a:xfrm>
            <a:off x="4140360" y="3645000"/>
            <a:ext cx="3095640" cy="2822400"/>
            <a:chOff x="4140360" y="3645000"/>
            <a:chExt cx="3095640" cy="2822400"/>
          </a:xfrm>
        </p:grpSpPr>
        <p:pic>
          <p:nvPicPr>
            <p:cNvPr id="145" name="Picture 27" descr="green (2)"/>
            <p:cNvPicPr/>
            <p:nvPr/>
          </p:nvPicPr>
          <p:blipFill>
            <a:blip r:embed="rId8"/>
            <a:stretch/>
          </p:blipFill>
          <p:spPr>
            <a:xfrm>
              <a:off x="4140360" y="3645000"/>
              <a:ext cx="309564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28"/>
            <p:cNvSpPr/>
            <p:nvPr/>
          </p:nvSpPr>
          <p:spPr>
            <a:xfrm>
              <a:off x="5437440" y="4581720"/>
              <a:ext cx="71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7" name="Group 29"/>
          <p:cNvGrpSpPr/>
          <p:nvPr/>
        </p:nvGrpSpPr>
        <p:grpSpPr>
          <a:xfrm>
            <a:off x="1258920" y="1557360"/>
            <a:ext cx="3024000" cy="2805120"/>
            <a:chOff x="1258920" y="1557360"/>
            <a:chExt cx="3024000" cy="2805120"/>
          </a:xfrm>
        </p:grpSpPr>
        <p:pic>
          <p:nvPicPr>
            <p:cNvPr id="148" name="Picture 30" descr="black"/>
            <p:cNvPicPr/>
            <p:nvPr/>
          </p:nvPicPr>
          <p:blipFill>
            <a:blip r:embed="rId9"/>
            <a:stretch/>
          </p:blipFill>
          <p:spPr>
            <a:xfrm>
              <a:off x="1258920" y="1557360"/>
              <a:ext cx="302400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31"/>
            <p:cNvSpPr/>
            <p:nvPr/>
          </p:nvSpPr>
          <p:spPr>
            <a:xfrm>
              <a:off x="2409480" y="2421000"/>
              <a:ext cx="100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32"/>
          <p:cNvGrpSpPr/>
          <p:nvPr/>
        </p:nvGrpSpPr>
        <p:grpSpPr>
          <a:xfrm>
            <a:off x="5651640" y="1989000"/>
            <a:ext cx="3095640" cy="3296520"/>
            <a:chOff x="5651640" y="1989000"/>
            <a:chExt cx="3095640" cy="3296520"/>
          </a:xfrm>
        </p:grpSpPr>
        <p:pic>
          <p:nvPicPr>
            <p:cNvPr id="151" name="Picture 33" descr="grey"/>
            <p:cNvPicPr/>
            <p:nvPr/>
          </p:nvPicPr>
          <p:blipFill>
            <a:blip r:embed="rId10"/>
            <a:stretch/>
          </p:blipFill>
          <p:spPr>
            <a:xfrm>
              <a:off x="5651640" y="1989000"/>
              <a:ext cx="3095640" cy="28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4"/>
            <p:cNvSpPr/>
            <p:nvPr/>
          </p:nvSpPr>
          <p:spPr>
            <a:xfrm>
              <a:off x="6660000" y="2997000"/>
              <a:ext cx="1223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3" name="Group 35"/>
          <p:cNvGrpSpPr/>
          <p:nvPr/>
        </p:nvGrpSpPr>
        <p:grpSpPr>
          <a:xfrm>
            <a:off x="2556000" y="0"/>
            <a:ext cx="3311280" cy="3296520"/>
            <a:chOff x="2556000" y="0"/>
            <a:chExt cx="3311280" cy="3296520"/>
          </a:xfrm>
        </p:grpSpPr>
        <p:pic>
          <p:nvPicPr>
            <p:cNvPr id="154" name="Picture 36" descr="white"/>
            <p:cNvPicPr/>
            <p:nvPr/>
          </p:nvPicPr>
          <p:blipFill>
            <a:blip r:embed="rId11"/>
            <a:stretch/>
          </p:blipFill>
          <p:spPr>
            <a:xfrm>
              <a:off x="2556000" y="0"/>
              <a:ext cx="3311280" cy="30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37"/>
            <p:cNvSpPr/>
            <p:nvPr/>
          </p:nvSpPr>
          <p:spPr>
            <a:xfrm>
              <a:off x="3708360" y="1008000"/>
              <a:ext cx="1007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6" name="Group 38"/>
          <p:cNvGrpSpPr/>
          <p:nvPr/>
        </p:nvGrpSpPr>
        <p:grpSpPr>
          <a:xfrm>
            <a:off x="3635280" y="907920"/>
            <a:ext cx="3240000" cy="2989080"/>
            <a:chOff x="3635280" y="907920"/>
            <a:chExt cx="3240000" cy="2989080"/>
          </a:xfrm>
        </p:grpSpPr>
        <p:pic>
          <p:nvPicPr>
            <p:cNvPr id="157" name="Picture 39" descr="red (2)"/>
            <p:cNvPicPr/>
            <p:nvPr/>
          </p:nvPicPr>
          <p:blipFill>
            <a:blip r:embed="rId12"/>
            <a:stretch/>
          </p:blipFill>
          <p:spPr>
            <a:xfrm>
              <a:off x="3635280" y="907920"/>
              <a:ext cx="3240000" cy="29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40"/>
            <p:cNvSpPr/>
            <p:nvPr/>
          </p:nvSpPr>
          <p:spPr>
            <a:xfrm>
              <a:off x="4786200" y="1915920"/>
              <a:ext cx="143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12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9" name="Group 41"/>
          <p:cNvGrpSpPr/>
          <p:nvPr/>
        </p:nvGrpSpPr>
        <p:grpSpPr>
          <a:xfrm>
            <a:off x="5977080" y="1341360"/>
            <a:ext cx="3166920" cy="3223800"/>
            <a:chOff x="5977080" y="1341360"/>
            <a:chExt cx="3166920" cy="3223800"/>
          </a:xfrm>
        </p:grpSpPr>
        <p:pic>
          <p:nvPicPr>
            <p:cNvPr id="160" name="Picture 42" descr="yellow (2)"/>
            <p:cNvPicPr/>
            <p:nvPr/>
          </p:nvPicPr>
          <p:blipFill>
            <a:blip r:embed="rId13"/>
            <a:stretch/>
          </p:blipFill>
          <p:spPr>
            <a:xfrm>
              <a:off x="5977080" y="1341360"/>
              <a:ext cx="316692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3"/>
            <p:cNvSpPr/>
            <p:nvPr/>
          </p:nvSpPr>
          <p:spPr>
            <a:xfrm>
              <a:off x="6984720" y="2276640"/>
              <a:ext cx="1223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62" name="Group 44"/>
          <p:cNvGrpSpPr/>
          <p:nvPr/>
        </p:nvGrpSpPr>
        <p:grpSpPr>
          <a:xfrm>
            <a:off x="0" y="2060640"/>
            <a:ext cx="3095640" cy="2860560"/>
            <a:chOff x="0" y="2060640"/>
            <a:chExt cx="3095640" cy="2860560"/>
          </a:xfrm>
        </p:grpSpPr>
        <p:pic>
          <p:nvPicPr>
            <p:cNvPr id="163" name="Picture 45" descr="pink (2)"/>
            <p:cNvPicPr/>
            <p:nvPr/>
          </p:nvPicPr>
          <p:blipFill>
            <a:blip r:embed="rId14"/>
            <a:stretch/>
          </p:blipFill>
          <p:spPr>
            <a:xfrm>
              <a:off x="0" y="2060640"/>
              <a:ext cx="309564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6"/>
            <p:cNvSpPr/>
            <p:nvPr/>
          </p:nvSpPr>
          <p:spPr>
            <a:xfrm>
              <a:off x="1008360" y="2923920"/>
              <a:ext cx="136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14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65" name="Group 47"/>
          <p:cNvGrpSpPr/>
          <p:nvPr/>
        </p:nvGrpSpPr>
        <p:grpSpPr>
          <a:xfrm>
            <a:off x="108000" y="189000"/>
            <a:ext cx="3097080" cy="2862000"/>
            <a:chOff x="108000" y="189000"/>
            <a:chExt cx="3097080" cy="2862000"/>
          </a:xfrm>
        </p:grpSpPr>
        <p:pic>
          <p:nvPicPr>
            <p:cNvPr id="166" name="Picture 48" descr="purple (2)"/>
            <p:cNvPicPr/>
            <p:nvPr/>
          </p:nvPicPr>
          <p:blipFill>
            <a:blip r:embed="rId15"/>
            <a:stretch/>
          </p:blipFill>
          <p:spPr>
            <a:xfrm>
              <a:off x="108000" y="189000"/>
              <a:ext cx="3097080" cy="28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49"/>
            <p:cNvSpPr/>
            <p:nvPr/>
          </p:nvSpPr>
          <p:spPr>
            <a:xfrm>
              <a:off x="1116000" y="1197000"/>
              <a:ext cx="165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15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7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9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0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1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3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54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58:09Z</dcterms:created>
  <dc:creator>Clare</dc:creator>
  <dc:description/>
  <dc:language>en-US</dc:language>
  <cp:lastModifiedBy>Clare Seccombe</cp:lastModifiedBy>
  <dcterms:modified xsi:type="dcterms:W3CDTF">2019-03-01T20:40:39Z</dcterms:modified>
  <cp:revision>73</cp:revision>
  <dc:subject/>
  <dc:title>Slide 1</dc:title>
</cp:coreProperties>
</file>