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BD0-C1C0-4EEC-BDBB-3C7B31B9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F83-1DBF-4C21-A12A-C494B6C0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E32-E163-46B0-A63A-4971E2A1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6F6-849A-4E89-9CAF-B87B79A4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E77-F570-4BA5-A195-7509B6CF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63A-4895-42E9-AE95-D6D372A3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68F-CE6A-4969-BFDC-DCAD357F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670-C3D2-4D02-B64B-7E7B07E3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97F-2EBE-439F-B90F-80638447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16C-2218-4D56-BE0E-0F0E98B7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835-C7B8-4A58-B96F-48FA030F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413-D019-46CC-8338-69A518F6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0AA1-051F-48C2-B764-B00B57255E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1292400" y="139680"/>
            <a:ext cx="6559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292400" y="139680"/>
            <a:ext cx="6559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1292400" y="139680"/>
            <a:ext cx="6559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292400" y="139680"/>
            <a:ext cx="6559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292400" y="139680"/>
            <a:ext cx="6559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9T19:27:19Z</dcterms:modified>
  <cp:revision>22</cp:revision>
  <dc:subject/>
  <dc:title>John</dc:title>
</cp:coreProperties>
</file>