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5FC-6AC3-4EBB-AE0F-D41C789D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189-963C-45FD-96E1-596D3D6F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569-C1F1-477F-980B-19880E6A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BB3-A4BE-431D-B766-702481E5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631-7484-4571-8F7B-CEEF5916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3E4-9C38-4962-AAF7-FB94F553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B32-3DB1-4704-B633-7B2DE2E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5E4-13C2-4EAA-A6E7-8807A0C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A17-4F97-4F29-BDCF-43486FD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9B1-9F36-4227-98BC-1F51920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A6D-8690-45C4-A3F3-7B48F0C7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AAC-8682-4BE4-A060-8B3ABC5F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FD7-F160-4744-9B96-CD078F6E55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9T19:27:19Z</dcterms:modified>
  <cp:revision>22</cp:revision>
  <dc:subject/>
  <dc:title>John</dc:title>
</cp:coreProperties>
</file>